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6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8.png" ContentType="image/png"/>
  <Override PartName="/ppt/media/image30.png" ContentType="image/png"/>
  <Override PartName="/ppt/media/image26.png" ContentType="image/png"/>
  <Override PartName="/ppt/media/image10.png" ContentType="image/png"/>
  <Override PartName="/ppt/media/image47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1.png" ContentType="image/png"/>
  <Override PartName="/ppt/media/image29.png" ContentType="image/png"/>
  <Override PartName="/ppt/media/image21.jpeg" ContentType="image/jpe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1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  <p:sldId id="309" r:id="rId79"/>
    <p:sldId id="310" r:id="rId80"/>
    <p:sldId id="311" r:id="rId81"/>
    <p:sldId id="312" r:id="rId82"/>
    <p:sldId id="313" r:id="rId83"/>
    <p:sldId id="314" r:id="rId84"/>
    <p:sldId id="315" r:id="rId85"/>
    <p:sldId id="316" r:id="rId86"/>
    <p:sldId id="317" r:id="rId87"/>
    <p:sldId id="318" r:id="rId88"/>
    <p:sldId id="319" r:id="rId89"/>
    <p:sldId id="320" r:id="rId90"/>
    <p:sldId id="321" r:id="rId91"/>
    <p:sldId id="322" r:id="rId92"/>
    <p:sldId id="323" r:id="rId93"/>
    <p:sldId id="324" r:id="rId94"/>
    <p:sldId id="325" r:id="rId95"/>
    <p:sldId id="326" r:id="rId96"/>
    <p:sldId id="327" r:id="rId97"/>
    <p:sldId id="328" r:id="rId98"/>
    <p:sldId id="329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slide" Target="slides/slide54.xml"/><Relationship Id="rId80" Type="http://schemas.openxmlformats.org/officeDocument/2006/relationships/slide" Target="slides/slide55.xml"/><Relationship Id="rId81" Type="http://schemas.openxmlformats.org/officeDocument/2006/relationships/slide" Target="slides/slide56.xml"/><Relationship Id="rId82" Type="http://schemas.openxmlformats.org/officeDocument/2006/relationships/slide" Target="slides/slide57.xml"/><Relationship Id="rId83" Type="http://schemas.openxmlformats.org/officeDocument/2006/relationships/slide" Target="slides/slide58.xml"/><Relationship Id="rId84" Type="http://schemas.openxmlformats.org/officeDocument/2006/relationships/slide" Target="slides/slide59.xml"/><Relationship Id="rId85" Type="http://schemas.openxmlformats.org/officeDocument/2006/relationships/slide" Target="slides/slide60.xml"/><Relationship Id="rId86" Type="http://schemas.openxmlformats.org/officeDocument/2006/relationships/slide" Target="slides/slide61.xml"/><Relationship Id="rId87" Type="http://schemas.openxmlformats.org/officeDocument/2006/relationships/slide" Target="slides/slide62.xml"/><Relationship Id="rId88" Type="http://schemas.openxmlformats.org/officeDocument/2006/relationships/slide" Target="slides/slide63.xml"/><Relationship Id="rId89" Type="http://schemas.openxmlformats.org/officeDocument/2006/relationships/slide" Target="slides/slide64.xml"/><Relationship Id="rId90" Type="http://schemas.openxmlformats.org/officeDocument/2006/relationships/slide" Target="slides/slide65.xml"/><Relationship Id="rId91" Type="http://schemas.openxmlformats.org/officeDocument/2006/relationships/slide" Target="slides/slide66.xml"/><Relationship Id="rId92" Type="http://schemas.openxmlformats.org/officeDocument/2006/relationships/slide" Target="slides/slide67.xml"/><Relationship Id="rId93" Type="http://schemas.openxmlformats.org/officeDocument/2006/relationships/slide" Target="slides/slide68.xml"/><Relationship Id="rId94" Type="http://schemas.openxmlformats.org/officeDocument/2006/relationships/slide" Target="slides/slide69.xml"/><Relationship Id="rId95" Type="http://schemas.openxmlformats.org/officeDocument/2006/relationships/slide" Target="slides/slide70.xml"/><Relationship Id="rId96" Type="http://schemas.openxmlformats.org/officeDocument/2006/relationships/slide" Target="slides/slide71.xml"/><Relationship Id="rId97" Type="http://schemas.openxmlformats.org/officeDocument/2006/relationships/slide" Target="slides/slide72.xml"/><Relationship Id="rId98" Type="http://schemas.openxmlformats.org/officeDocument/2006/relationships/slide" Target="slides/slide73.xml"/><Relationship Id="rId99" Type="http://schemas.openxmlformats.org/officeDocument/2006/relationships/slide" Target="slides/slide7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6085-DB11-41E9-A0A0-83CEE162FAF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EB3D-2A6E-41B9-ADCF-D3EDAB7B8605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011-95DD-4466-B733-6BFEF600FC36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CC9C-6EB5-4106-925A-C9865F1814AD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6E98-0A2B-4671-BAB5-86AEECCE12F8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Ka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EC9C-0F41-4190-A709-0E2252EFC159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9DE-182F-4D4E-AD73-5564D9C2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2B94-325C-4F9B-BFB5-1E4D9CCA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920-470F-4151-96D0-25261B4FDA8B}" type="slidenum">
              <a:rPr b="0" lang="en-US" sz="1200" spc="-1" strike="noStrike">
                <a:solidFill>
                  <a:srgbClr val="29292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36A-0A76-410A-BD6B-5AA0F8E66B26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 болничких смртних случајева последица су ПЕ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1% од свих болничких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јема умре од Ј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A8A7-B1ED-4517-A3FA-A5B34035F8BB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387B-3D18-452C-82B8-620EBB7A2C24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AA6-5494-433C-9BF2-A915E65D324A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8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 настанак тромбоза одговорни су чиниоци Виховљеве трија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DF5F-A146-406C-92A5-26A38DB77283}" type="slidenum">
              <a:rPr b="0" lang="sr-Latn-C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9A2B-F745-42AD-A64A-57E73B98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FE67-3DB1-4C21-B486-7F8E7D4B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8CBE-86E1-404D-9B86-C83305A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E925-704D-4FEA-BE0D-606687A6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81E2-5260-4241-9948-F38E4EE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D677-F7FE-4F32-A39A-EC7F637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5BD1-FD17-40E3-B7A0-65754677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2C31-F24A-40E2-99F9-4419DA26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0551-73AA-4CA0-BCCC-D1209E26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E041-AEAE-4E8C-B028-D44E07FF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B015F-6260-4D3F-B2D8-27E0B48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60AB-61E2-435A-9A1C-EF9D4CD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2CEA1-E6B2-468A-93F0-5066368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8C80-8E3A-4E82-B725-D288000C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1660-AB42-4BC5-B712-8F87CD6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10EB-DA2E-41BF-A6D2-7C529B2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A17D-4064-4103-8BB8-82DAFE4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AACF-97EE-4288-92D9-C838C0F9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A49D-9822-4118-A485-A53D18E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E9E92-8843-4D5A-B373-A592E4D9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FB29-F1B9-431C-96B7-8FB429BE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1CBF0-9EC4-4215-97E2-B55607B6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873B-5EE6-448D-82C8-E99DD7A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7B04-908F-4BE4-9EF5-DCA141B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49CA-8B9A-4AE1-93BA-12F898C3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9A2A-BAA4-426D-9217-7782FB0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82C2-F307-447A-9BB0-EA4E25B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E757-7DAC-430C-BCFD-190FE37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1537-1182-42A1-8322-CCB03023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806D6-7625-4DC2-AC28-2F8A051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1C3C-80D4-4870-B3FC-3B3B49EB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3D4AD-3725-42AE-9832-9BDA1E67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5A9E-9B5F-48D2-8C5E-DE410C39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F2DC-6245-4BBF-B276-E63CAF4E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7917E-242D-471B-8E6D-3366AF8A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D8DF-36D0-49BD-ACB2-79DA7E0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342F-176C-4703-9145-5A53809A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6AFF-4CCB-438F-9409-0EBBE46E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1F249-67BF-41D2-9F9D-5265248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4DE30-06A3-410B-9BD5-3190B96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ED655-4144-4C90-A7BF-E3DC0FBE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E7687-5793-4DF5-9CB9-239FE96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1F26-575A-4E54-ABD0-9398D049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B7770-E901-43D9-917C-9A9B836B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F819-A38A-4198-AA45-DEE5B868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B16B-8F3F-468E-9694-272E4D7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55E0-1E00-4A3B-9836-25139D5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1693C-468E-406A-A125-AE08EE1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C72B-1618-4FD5-945C-8AFB824C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A9147-9A3F-4DAB-B479-EBD415B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5CF14-4766-4D04-B7AB-06AAA15E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DB028-5CD3-455C-BD1D-4DD8F23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BBE35-4925-49C5-9190-5E74718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3D050-EEA3-41B4-A7ED-2982B68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59759-4AEE-4878-A8B4-DF8F84F9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FCFF-4731-4DC6-AE94-5421D662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0171-355E-4BCF-9968-7B980B1C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34A1B-983C-4CEC-84C2-C265A733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EBE24-85A9-4CB3-9CB1-7319564B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0B38-0103-434D-83EE-36740640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B7686-ECD1-4216-9D1B-C8BAE93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C996F-C67C-4A04-AD57-FAFFA524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B92F5-239F-49A1-ADA9-D89ED85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5C188-09A7-43B0-AA0C-376ABEE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A7D33-6F2D-4029-B1A0-7575C9E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8140E-16A4-4909-9062-0C293BE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43944-3880-4083-B50C-7F15CBD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9459F-D938-493F-BA07-9191C3D3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9E37-6222-4A03-891E-7F576A36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86FC-17A3-4C2E-81C5-A254BBD8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7F216-0F87-4A20-98B9-DCC5465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6549A-4647-46DA-A649-0368F104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7C093-8685-43A7-B5C8-DD81A03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5B844-8AB1-45F7-B39A-E3163058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5902C-590C-4748-97BD-A5F2FF1D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C9150-40A2-4017-80C5-D7D8EA8F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6D870-F83A-4378-84B3-E0120AF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2A0E6-5C9F-45BD-A6C8-BA7E185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8A24-E2D1-48E0-9363-B7FF640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E8F32-9B04-4D6B-9259-BB0CBF3B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9909E-633A-4187-9620-2C12020F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7C1B0-3884-4D3C-9DEA-95031E8C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42BF3-D96D-4DD4-9E8F-215B36BA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4A164-8929-444A-AFC9-7AF1694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A453-7A77-4E26-A69D-AEE4EF7D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CC4AB-08B4-499A-864A-DB11BEEE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F4E15-FB1F-4696-8C2F-22C26904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80624-0232-44CA-936B-400991C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A7643-741B-4904-91FB-CBC3CCA6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2A1BB-835B-4DA0-9E46-84F984FD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39748-E373-4B6F-8A95-FC99B6A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53CD8-76B1-446E-A4C5-E4D1D7C2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4B8A0-0CEF-4EE6-8935-F3F8E1E9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1BB13-FE86-49C4-8995-D0640107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36AA1-B23A-4FE3-A91A-5498B41D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1D6A8-C431-4321-9804-A9D74002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8435F-242A-4CBF-96A9-F4BBDEE7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7157-1365-46A8-AD0C-BA74B03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F383E-63AC-4136-B5F4-B2B3360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EF973-FBBF-4F4E-AF71-F57B1B4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EFBF9-15BC-4FC2-9EBE-0C7F8F96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561D8-01A3-4ECC-BF57-404D97B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5256E-CECD-45F1-8E61-C54D118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F59DB-7609-426F-A7A8-C0DA6537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56C5B-1815-47D7-B39D-5E6C2B9B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6CCAB-7B19-47AC-8EE4-A3527E9A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EDCAF-44B8-4FAD-9B6A-EE7F709B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D782C-E0E9-4E8C-9BE3-BF9481A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9E08E-0369-498A-86A2-3321F55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EC183-EC29-4373-878A-EABF847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2A5F4-56AC-4DC9-9C66-98A9A4E6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D32E0-B78C-4E0C-8FB6-699AA6B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2FD43-0977-49FE-B5EC-167840F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C9D7E-3000-491E-AD89-5605EC9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214F6-6BD1-4A5B-859C-3471475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C6C8D-9B5E-4269-A97E-7ABFBFB8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A2A2F-B7A0-4C58-8D69-74E8AB33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34A02-B7C7-475B-B0F7-E53BC3DB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F5DB7-8681-48C7-8DF1-4FB0894C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2EE9A-D6E2-476C-BBC2-33E3EF9E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4FEB1-95FE-4AFF-B718-995D515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4149D-479E-45BC-8DBD-CCE30441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5331E-F7F0-4C58-821C-CAC22B75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FA3D3-39AB-4CD6-9730-64C72CF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AA1D2-C100-4BAB-95EC-17A3682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55066-0F29-4317-9257-62A2034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0C4E9-1A40-4BAA-B062-A54478F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190FF-0757-4AD1-B79F-B98990E0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E8BD9-641B-4A38-910F-B2182B53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3E585-D1F7-4C85-8A28-60F53CDD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AF12B-A628-4691-A7EF-47ECFC27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A7CF8-EFC7-45C5-B789-FD812696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BFFD6-A4EF-4883-9D37-44761EC7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04FFA-F99B-412F-A9A0-8444FB41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8AFF4-DECF-417F-91BE-3BDD323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2B153-A30F-4F97-AA59-3E7F726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83E75-350A-49A0-8670-D116766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C6726-3775-47C0-84C8-FB53176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92B02-4308-48EB-B806-E3864F4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FE2B1-29D3-4091-A249-15379569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22A0C-2495-4DF0-B63F-ACCFB247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C9DB6-C861-4980-A84A-C2DABF85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64B00-1D39-4B84-924C-7419C46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F2FA8-F584-44CA-883B-55437F76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95DA6-69A8-49D6-86AD-E0A8CA64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6D8BD-87BD-462A-B040-053305AA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1E5BB-7083-4C81-BE63-1F34355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2624B-4911-4946-8CEC-805ACB5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EDFE3-5C88-4BA3-8E0B-65EBB4D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9CB8A-E880-41E0-A4AD-ACAB331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F3361-6E5C-4745-BB6D-B8A77AC2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A76E6-A2EB-4AE9-A36C-46BDE062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285AD-EB32-4CC9-AEBB-7268E1B5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CA236-8A48-4AA1-9E7F-AE09B7D6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6BAA4-B70F-4D06-9A48-D6A1064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D13D9-748A-46AB-A567-90F92AA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851B4-527B-4861-8B17-B36BFD08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EE316-0980-4A5D-92A2-0C7544B2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25349-624C-47E9-A3FC-D10ECA62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AB81E-1978-4D14-A323-D0930AF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A86F9-866F-4E66-A165-FDEA796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DB027-10A3-474F-A0A0-2AE0330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F8143-3A91-47B9-A239-6C91CE2A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1BE24-26CC-4789-9636-F27EDCC1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4F828-34A2-4CC8-971C-FCE2E432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9A6-8BD6-4954-A671-A0303033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4A8-E842-4AA5-8008-3D2C3D52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75A-D170-4A2E-B2C5-49DC1DE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2EF-7898-4339-808A-4B276071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73B-A482-492F-B779-897B60E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C7F-B5DD-4E99-8DE6-E7A051F2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413-D338-49AA-9292-DC60343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AB7-E999-4B36-9379-4B190B9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767-33CC-4382-80A2-137973F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2F6-181D-4C81-A9CA-066157D9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324-DD4F-4EE4-9B66-C90A678F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63F-67CE-4DEA-956D-84A9C2A4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D9CC-1A25-49E0-BD0C-9DC0FF66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ECA1-2205-4493-9B9D-FA5EAF8F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7213-BC2D-4FA1-B46A-B4095F80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C8DA-B870-40D5-9E94-18D30202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6FFC-D2B9-452F-9B54-30C95EA5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3D9-E79B-40D2-8696-693646EA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D9C7-7816-40BA-907A-72EF295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B53C-E712-4E8B-B7E9-99645E5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E966-0A45-416C-AE71-01A36CE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39D6-A939-4528-BEF4-32D7FDF8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E371-08A1-4D0B-AA81-429504E6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B3D4-351A-4855-84AD-1C536B4D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AB62-6CF4-446B-9928-99E6A109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6EDC-4815-414B-B7C7-665039C8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208E-5561-4CE3-A3F7-C35A848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5CF8-56C8-4853-B8AA-83A34B04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BCCB-6F04-4C17-90F4-AD53369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25E2-EA8A-43FF-95AE-53261579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7E3F-DB2A-4054-99E0-AB239BA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19CA-294F-4D57-B600-F69D36E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13A5-B984-4477-A82B-6B8AF88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0FE4-361E-4801-B38A-27A176C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8443-A0AC-44DD-8630-00CB5FEB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F8C3-23F7-4038-B7B0-F376DA06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A650-ED27-4E7F-8308-48BE59B2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A297-B60C-4326-9B67-B1688D34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3150-6091-4CF9-8A5F-0542874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3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395" name="Oval 6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96" name="Rectangle 7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97" name="Rectangle 8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98" name="Freeform 9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99" name="Freeform 10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DA50-B99F-4F8B-9252-9BA0BACF83CD}" type="slidenum">
              <a:rPr b="0" lang="en-US" sz="2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C72-5020-42E2-957F-B9455ADAC91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0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2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3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4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5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6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7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8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49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0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1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2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3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4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2A5-C1E4-4772-A66A-6CC6204D0E4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7BF0-09C1-41BC-8BDA-DA4DC81209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4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4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4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4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4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5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5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5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50AA-4216-4100-B3C1-763A3298798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C64-1679-4A31-A894-BEBAE96555A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4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4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4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747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748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749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750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751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752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753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754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755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756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757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1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2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3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92D9-9691-4152-BE71-9549DBD077E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00B-4051-4010-835D-4EC1AD9FE69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5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6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0C5-65A2-4329-9F62-6E6F1B8FFE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7CF-8583-436E-8CBC-AD8C5C1365B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6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7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CFA-0C03-488F-95BD-893DA799E6E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636-A746-4D32-AD33-ED5470702A8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5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5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5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5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5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6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6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6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6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064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1065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1066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1067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068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1069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1070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1071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072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1073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1074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1075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4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5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5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8931-A7FF-4B30-B120-27BA3ADBD6C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5A5F-76FD-41D3-8F7C-F636FC6432B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0193-010C-4210-9532-CD3B357E9E0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3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21" name="Oval 6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0A17-B021-4E7C-92DB-FFAF137C0C66}" type="slidenum">
              <a:rPr b="0" lang="en-US" sz="2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3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308" name="Oval 6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11" name="Freeform 9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  <p:sp>
          <p:nvSpPr>
            <p:cNvPr id="312" name="Freeform 10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49280" y="1809720"/>
            <a:ext cx="8245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-385920">
              <a:spcBef>
                <a:spcPts val="12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4" marL="2070000" indent="-38736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5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6" marL="2070000" indent="-387360">
              <a:spcBef>
                <a:spcPts val="12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97B-3E42-4617-AF99-7CD6207E1401}" type="slidenum">
              <a:rPr b="0" lang="en-US" sz="2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image" Target="../media/image61.png"/><Relationship Id="rId1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Title 1" descr=""/>
          <p:cNvPicPr/>
          <p:nvPr/>
        </p:nvPicPr>
        <p:blipFill>
          <a:blip r:embed="rId1"/>
          <a:stretch/>
        </p:blipFill>
        <p:spPr>
          <a:xfrm>
            <a:off x="549360" y="1066680"/>
            <a:ext cx="7918200" cy="3419640"/>
          </a:xfrm>
          <a:prstGeom prst="rect">
            <a:avLst/>
          </a:prstGeom>
          <a:ln w="0">
            <a:noFill/>
          </a:ln>
        </p:spPr>
      </p:pic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914400" y="42955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3 недеља настав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Проф. Др Зорица Лазић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26" name="Picture 2" descr=""/>
          <p:cNvPicPr/>
          <p:nvPr/>
        </p:nvPicPr>
        <p:blipFill>
          <a:blip r:embed="rId2"/>
          <a:stretch/>
        </p:blipFill>
        <p:spPr>
          <a:xfrm>
            <a:off x="2500200" y="214200"/>
            <a:ext cx="3857760" cy="8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7" name="TextBox 4"/>
          <p:cNvSpPr/>
          <p:nvPr/>
        </p:nvSpPr>
        <p:spPr>
          <a:xfrm>
            <a:off x="1042920" y="2133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Клиничка</a:t>
            </a:r>
            <a:r>
              <a:rPr b="0" lang="sr-Latn-RS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пропедевтика</a:t>
            </a:r>
            <a:r>
              <a:rPr b="0" lang="sr-Latn-RS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за</a:t>
            </a:r>
            <a:r>
              <a:rPr b="0" lang="sr-Latn-RS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фармацеуте</a:t>
            </a:r>
            <a:r>
              <a:rPr b="0" lang="sr-Latn-RS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ИАСФ</a:t>
            </a:r>
            <a:r>
              <a:rPr b="0" lang="sr-Latn-RS" sz="2800" spc="-1" strike="noStrike">
                <a:solidFill>
                  <a:srgbClr val="29292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Стечени</a:t>
            </a:r>
            <a:r>
              <a:rPr b="0" lang="sr-Latn-CS" sz="3600" spc="-1" strike="noStrike">
                <a:solidFill>
                  <a:srgbClr val="ffff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фактори</a:t>
            </a:r>
            <a:r>
              <a:rPr b="0" lang="sr-Latn-CS" sz="3600" spc="-1" strike="noStrike">
                <a:solidFill>
                  <a:srgbClr val="ffff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ризика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57200" y="1699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ПРЕДХОДН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ТРОМБОЕМБОЛИЗАМ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КОНГЕСТИВНА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СРЧАНА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ИНСУФИЦИЈЕНЦИЈ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ГОЈАЗНОС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ТРУДНОЋА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/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ПОСТПАРТАЛН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-5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ут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већ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односу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гравидн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оремећен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однос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коаг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фибринолиз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ОРАЛНА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КОНТРАЦЕПТИВНА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РЕДСТВ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рећ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ген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рогестеронском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компонентом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/ 2x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чешћ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ЦЕНТРАЛН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ВЕНСК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КАТЕТЕР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СТЕЧЕНЕ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БОЛЕСТ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ТРОМБОЦИТ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 -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антифосфолипидн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хепарином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узрокован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ромбоцитоз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пленектом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cc00"/>
                </a:solidFill>
                <a:latin typeface="Consolas"/>
              </a:rPr>
              <a:t>Урођени</a:t>
            </a:r>
            <a:r>
              <a:rPr b="0" lang="sr-Latn-CS" sz="4000" spc="-1" strike="noStrike">
                <a:solidFill>
                  <a:srgbClr val="ffcc00"/>
                </a:solidFill>
                <a:latin typeface="Consolas"/>
              </a:rPr>
              <a:t> </a:t>
            </a:r>
            <a:r>
              <a:rPr b="0" lang="sr-RS" sz="4000" spc="-1" strike="noStrike">
                <a:solidFill>
                  <a:srgbClr val="ffcc00"/>
                </a:solidFill>
                <a:latin typeface="Consolas"/>
              </a:rPr>
              <a:t>фактори</a:t>
            </a:r>
            <a:r>
              <a:rPr b="0" lang="sr-Latn-CS" sz="4000" spc="-1" strike="noStrike">
                <a:solidFill>
                  <a:srgbClr val="ffcc00"/>
                </a:solidFill>
                <a:latin typeface="Consolas"/>
              </a:rPr>
              <a:t> </a:t>
            </a:r>
            <a:r>
              <a:rPr b="0" lang="sr-RS" sz="4000" spc="-1" strike="noStrike">
                <a:solidFill>
                  <a:srgbClr val="ffcc00"/>
                </a:solidFill>
                <a:latin typeface="Consolas"/>
              </a:rPr>
              <a:t>риз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Дефицит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антитромбин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III,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ротеин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C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ротеин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Резистенциј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активира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ротеин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C (faktor V Leiden mutacija) 20-50%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оремећај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лазминоген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Хиперхомоцистеинемиј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-20%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овишене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концентрације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фактор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VII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ротромбин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генск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мутациј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(G20210A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олиморфизам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Најчешће тромбофилије повезане са ВТ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685800" y="1413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нтифосфолипиди синром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(присуство лупус антикоагуланса, антикардиолипинских антитела и бета2гликопротеина 1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Хиперхомоцистеинемиј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условљена недостатком витамина Б12 и другим негенетским узроцим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хиперхомоцистеинемија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оштећује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ендотел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крвног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суд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блокира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антикоагулантну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активнос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активација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тромбоцита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(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агрегација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адхезија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Антифосфолипидни синдро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Први пут описан код системског лупуса “лупус антикоагуланс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Антифосфолипидна антитела се везују за ендотел крвних судов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1-5% популације има антифосфолипидна антител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50% особа са овим синдромом има лупус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Манифестује се </a:t>
            </a:r>
            <a:r>
              <a:rPr b="0" lang="ru-RU" sz="3000" spc="-1" strike="noStrike">
                <a:solidFill>
                  <a:srgbClr val="ffff00"/>
                </a:solidFill>
                <a:latin typeface="Calibri"/>
                <a:ea typeface="Calibri"/>
              </a:rPr>
              <a:t>рецидивантним артеријским и венским тромбозама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доказује откривањем </a:t>
            </a:r>
            <a:r>
              <a:rPr b="0" lang="ru-RU" sz="3000" spc="-1" strike="noStrike">
                <a:solidFill>
                  <a:srgbClr val="ffff00"/>
                </a:solidFill>
                <a:latin typeface="Calibri"/>
                <a:ea typeface="Calibri"/>
              </a:rPr>
              <a:t>антитела у серум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ТЕСТИРАЊЕ НА ТРОМБОФИЛИЈ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д особа млађих од 50 годин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курентне идиопатске плућне емболије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родична анамнеза доказаног ВТЕ код неколико чланова породице у више од једне генерациј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cc00"/>
                </a:solidFill>
                <a:latin typeface="Corbel"/>
              </a:rPr>
              <a:t>   </a:t>
            </a:r>
            <a:r>
              <a:rPr b="0" lang="en-US" sz="1900" spc="-1" strike="noStrike">
                <a:solidFill>
                  <a:srgbClr val="ffcc00"/>
                </a:solidFill>
                <a:latin typeface="Corbel"/>
              </a:rPr>
              <a:t>   </a:t>
            </a:r>
            <a:r>
              <a:rPr b="0" lang="sr-Latn-CS" sz="1900" spc="-1" strike="noStrike">
                <a:solidFill>
                  <a:srgbClr val="ffcc00"/>
                </a:solidFill>
                <a:latin typeface="Corbel"/>
              </a:rPr>
              <a:t> </a:t>
            </a:r>
            <a:r>
              <a:rPr b="1" lang="sr-Latn-CS" sz="1700" spc="-1" strike="noStrike">
                <a:solidFill>
                  <a:srgbClr val="ffcc00"/>
                </a:solidFill>
                <a:latin typeface="Corbel"/>
              </a:rPr>
              <a:t>British Thoracic Society 2003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д особа млађих од 40 годин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оказана идиопатска венска тромбоз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зитивна породична анамнез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817200" y="6083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Comic Sans MS"/>
              </a:rPr>
              <a:t>European Society of Cardiology 2000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382760" y="54612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cc00"/>
                </a:solidFill>
                <a:latin typeface="Consolas"/>
              </a:rPr>
              <a:t>Патофизиологија</a:t>
            </a:r>
            <a:r>
              <a:rPr b="1" lang="sr-Latn-CS" sz="4000" spc="-1" strike="noStrike">
                <a:solidFill>
                  <a:srgbClr val="ffcc00"/>
                </a:solidFill>
                <a:latin typeface="Consolas"/>
              </a:rPr>
              <a:t> V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1116000" y="1773360"/>
            <a:ext cx="7056360" cy="19447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181876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1856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године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Rudolf Virchow 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тријас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ф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a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к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t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ора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који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узрокују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коагулацију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289080" y="3860640"/>
            <a:ext cx="8459640" cy="237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ОШТЕЋЕЊЕ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ЕНДОТЕЛА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ВЕНСКА</a:t>
            </a:r>
            <a:r>
              <a:rPr b="1" lang="sr-Latn-CS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СТАЗА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2929"/>
                </a:solidFill>
                <a:latin typeface="Tahoma"/>
              </a:rPr>
              <a:t>ХИПЕРКОАГУЛАБИЛНОСТ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65" name="Text Box 5"/>
          <p:cNvSpPr/>
          <p:nvPr/>
        </p:nvSpPr>
        <p:spPr>
          <a:xfrm>
            <a:off x="2428200" y="63882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2929"/>
                </a:solidFill>
                <a:latin typeface="Arial"/>
              </a:rPr>
              <a:t>СМАЊЕЊЕ</a:t>
            </a:r>
            <a:r>
              <a:rPr b="1" lang="sr-Latn-C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Arial"/>
              </a:rPr>
              <a:t>ФИБРИНОЛИЗЕ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Формирње тромб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Бели тромб-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грегација тромбоцита у пределу  венских залистак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Црвени тромб-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аложење фибри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Фибринолиза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 неколико часова или да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Организација-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иброзне промене-инкомпетентне  венске валвуле- луминална сужењ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8" name="Rectangle 4"/>
          <p:cNvSpPr/>
          <p:nvPr/>
        </p:nvSpPr>
        <p:spPr>
          <a:xfrm>
            <a:off x="669960" y="4508640"/>
            <a:ext cx="7934400" cy="16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eb8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b8803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292929"/>
                </a:solidFill>
                <a:latin typeface="Calibri"/>
              </a:rPr>
              <a:t>Стабилно стање после 7-10 дана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8803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292929"/>
                </a:solidFill>
                <a:latin typeface="Calibri"/>
              </a:rPr>
              <a:t>Првих неколико дана најкритичнији за настанак ПТЕ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9640" y="51264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alibri"/>
              </a:rPr>
              <a:t>Флеботромбоза дубоких вена доњих екстремите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Corbel"/>
              </a:rPr>
              <a:t>50% 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болесника без симпто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Уобичајени клинички знаци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ОТОК НОГ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БО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ХОМАНОВ  ЗНАК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rbel"/>
              </a:rPr>
              <a:t>Највећи ризик за ПТЕ је 72</a:t>
            </a:r>
            <a:r>
              <a:rPr b="1" lang="sr-Latn-CS" sz="3000" spc="-1" strike="noStrike">
                <a:solidFill>
                  <a:srgbClr val="ffcc00"/>
                </a:solidFill>
                <a:latin typeface="Corbel"/>
              </a:rPr>
              <a:t>h </a:t>
            </a:r>
            <a:r>
              <a:rPr b="1" lang="en-US" sz="3000" spc="-1" strike="noStrike">
                <a:solidFill>
                  <a:srgbClr val="ffcc00"/>
                </a:solidFill>
                <a:latin typeface="Corbel"/>
              </a:rPr>
              <a:t>после настанка ДВ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Стабилно стање после 7-10 дан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12952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" descr=""/>
          <p:cNvPicPr/>
          <p:nvPr/>
        </p:nvPicPr>
        <p:blipFill>
          <a:blip r:embed="rId2"/>
          <a:stretch/>
        </p:blipFill>
        <p:spPr>
          <a:xfrm>
            <a:off x="1042920" y="3249720"/>
            <a:ext cx="7058160" cy="118728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4" descr=""/>
          <p:cNvPicPr/>
          <p:nvPr/>
        </p:nvPicPr>
        <p:blipFill>
          <a:blip r:embed="rId3"/>
          <a:stretch/>
        </p:blipFill>
        <p:spPr>
          <a:xfrm>
            <a:off x="1042920" y="4940280"/>
            <a:ext cx="6913800" cy="1297080"/>
          </a:xfrm>
          <a:prstGeom prst="rect">
            <a:avLst/>
          </a:prstGeom>
          <a:ln w="0">
            <a:noFill/>
          </a:ln>
        </p:spPr>
      </p:pic>
      <p:sp>
        <p:nvSpPr>
          <p:cNvPr id="1174" name="Rectangle 5"/>
          <p:cNvSpPr/>
          <p:nvPr/>
        </p:nvSpPr>
        <p:spPr>
          <a:xfrm>
            <a:off x="324000" y="5418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Calibri"/>
              </a:rPr>
              <a:t>Настанак венског тромбоемболизма (ВТЕ)</a:t>
            </a: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75" name="Text Box 6"/>
          <p:cNvSpPr/>
          <p:nvPr/>
        </p:nvSpPr>
        <p:spPr>
          <a:xfrm>
            <a:off x="1964520" y="638172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Одвајање тромба и  настанак емболус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76" name="Text Box 7"/>
          <p:cNvSpPr/>
          <p:nvPr/>
        </p:nvSpPr>
        <p:spPr>
          <a:xfrm>
            <a:off x="2959920" y="45813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Tahoma"/>
              </a:rPr>
              <a:t>Ширење тромб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77" name="Text Box 8"/>
          <p:cNvSpPr/>
          <p:nvPr/>
        </p:nvSpPr>
        <p:spPr>
          <a:xfrm>
            <a:off x="2224080" y="285264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Tahoma"/>
              </a:rPr>
              <a:t>Формирање тромба иза  венских залистак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Calibri"/>
                <a:ea typeface="Calibri"/>
              </a:rPr>
              <a:t>Патофизиологија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1547640" y="1268280"/>
            <a:ext cx="3311640" cy="1089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оштећење крвног суда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   </a:t>
            </a: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венска стаза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   </a:t>
            </a: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хиперкоагулабилност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7791"/>
                </a:solidFill>
                <a:latin typeface="Comic Sans MS"/>
              </a:rPr>
              <a:t>                            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4140360" y="2637000"/>
            <a:ext cx="3311280" cy="914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стварање тромба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1619280" y="3933720"/>
            <a:ext cx="3311640" cy="914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откидање тромба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83" name="Rectangle 7"/>
          <p:cNvSpPr/>
          <p:nvPr/>
        </p:nvSpPr>
        <p:spPr>
          <a:xfrm>
            <a:off x="3995640" y="5300640"/>
            <a:ext cx="3311640" cy="914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b37"/>
                </a:solidFill>
                <a:latin typeface="Corbel"/>
              </a:rPr>
              <a:t>запушење дела 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b37"/>
                </a:solidFill>
                <a:latin typeface="Corbel"/>
              </a:rPr>
              <a:t>плућне циркулације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4091040" y="3500280"/>
            <a:ext cx="4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85" name="Rectangle 9"/>
          <p:cNvSpPr/>
          <p:nvPr/>
        </p:nvSpPr>
        <p:spPr>
          <a:xfrm>
            <a:off x="4161600" y="486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"/>
          <p:cNvSpPr/>
          <p:nvPr/>
        </p:nvSpPr>
        <p:spPr>
          <a:xfrm>
            <a:off x="4429080" y="333360"/>
            <a:ext cx="47149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Дефиниција</a:t>
            </a:r>
            <a:endParaRPr b="0" lang="en-US" sz="40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Плућне тромбоемболије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29" name="Text Box 3"/>
          <p:cNvSpPr/>
          <p:nvPr/>
        </p:nvSpPr>
        <p:spPr>
          <a:xfrm>
            <a:off x="4343400" y="239544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Клиничко и патофизиолошко стање које настаје када тромбни емболус ношен крвотоком доведе до опструкције  гране плућне артерије и спречи довод крви у један део плућа 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  <p:pic>
        <p:nvPicPr>
          <p:cNvPr id="1130" name="Picture 40" descr="nrcardio"/>
          <p:cNvPicPr/>
          <p:nvPr/>
        </p:nvPicPr>
        <p:blipFill>
          <a:blip r:embed="rId1"/>
          <a:stretch/>
        </p:blipFill>
        <p:spPr>
          <a:xfrm>
            <a:off x="214200" y="1700280"/>
            <a:ext cx="37274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66"/>
                </a:solidFill>
                <a:latin typeface="Consolas"/>
              </a:rPr>
              <a:t>Патофизиолошке</a:t>
            </a:r>
            <a:r>
              <a:rPr b="0" lang="sr-Latn-CS" sz="4000" spc="-1" strike="noStrike">
                <a:solidFill>
                  <a:srgbClr val="ffff66"/>
                </a:solidFill>
                <a:latin typeface="Consolas"/>
              </a:rPr>
              <a:t> </a:t>
            </a:r>
            <a:r>
              <a:rPr b="0" lang="sr-RS" sz="4000" spc="-1" strike="noStrike">
                <a:solidFill>
                  <a:srgbClr val="ffff66"/>
                </a:solidFill>
                <a:latin typeface="Consolas"/>
              </a:rPr>
              <a:t>последице</a:t>
            </a:r>
            <a:r>
              <a:rPr b="0" lang="sr-Latn-CS" sz="4000" spc="-1" strike="noStrike">
                <a:solidFill>
                  <a:srgbClr val="ffff66"/>
                </a:solidFill>
                <a:latin typeface="Consolas"/>
              </a:rPr>
              <a:t> P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Зависе од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Степен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опструкције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лућног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артеријског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крвног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рото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редходног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стањ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кардиоваскуларног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респирацијског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систем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Ослобађањ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вазоактивних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хуморалних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фактор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(serotonin, histamin, tromboksan A2)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 из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накупљених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тромбоци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овод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онтракциј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глатких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мишић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рвних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удов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бронхиј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Consolas"/>
              </a:rPr>
              <a:t>Хемодинамске последиц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539280" y="1784520"/>
            <a:ext cx="849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Најважнија патофизиолошка манифестација је настанак плућне хипертензије, због повишеног плућног судовног отпор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Средњи плућни артеријски притисак се повећава на просечно 35 </a:t>
            </a:r>
            <a:r>
              <a:rPr b="0" lang="sr-Latn-RS" sz="2000" spc="-1" strike="noStrike">
                <a:solidFill>
                  <a:srgbClr val="ffffff"/>
                </a:solidFill>
                <a:latin typeface="Corbel"/>
              </a:rPr>
              <a:t>mmHg</a:t>
            </a: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 када је више од 30% до 50% плућне артеријске мреже оклудирано у раније здравим плућим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Секундарно настанку плућне хипертензије доприноси и вазоконстрикција, условљена хипоксемијом и локално ослобођеним вазоактивним супстанцама (хистамин, серотонин и простагландин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Масивне емболије које оклудирају више од 70% плућне судовне мреже изазивају критичну опструкцију крвном протоку десне коморе што брзо доводи до декомпензације десне коморе са смањеним пуњењем леве коморе и системском хипотензијо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74240" y="-243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Хемодинамске последице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2" name="Rectangle 4"/>
          <p:cNvSpPr/>
          <p:nvPr/>
        </p:nvSpPr>
        <p:spPr>
          <a:xfrm>
            <a:off x="1643040" y="1143000"/>
            <a:ext cx="5953320" cy="9144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опструкција дела плућне циркулације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b3a1d"/>
                </a:solidFill>
                <a:latin typeface="Corbel"/>
              </a:rPr>
              <a:t>(р</a:t>
            </a:r>
            <a:r>
              <a:rPr b="1" lang="en-US" sz="2000" spc="-1" strike="noStrike">
                <a:solidFill>
                  <a:srgbClr val="3b3a1d"/>
                </a:solidFill>
                <a:latin typeface="Corbel"/>
              </a:rPr>
              <a:t>едукција плућне васкуларне мреже)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7791"/>
                </a:solidFill>
                <a:latin typeface="Comic Sans MS"/>
              </a:rPr>
              <a:t>                             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b3a1d"/>
                </a:solidFill>
                <a:latin typeface="Comic Sans MS"/>
              </a:rPr>
              <a:t>                              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93" name="Rectangle 5"/>
          <p:cNvSpPr/>
          <p:nvPr/>
        </p:nvSpPr>
        <p:spPr>
          <a:xfrm>
            <a:off x="2714760" y="2143080"/>
            <a:ext cx="3882960" cy="14367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rbel"/>
              </a:rPr>
              <a:t>П</a:t>
            </a:r>
            <a:r>
              <a:rPr b="1" lang="en-US" sz="1400" spc="-1" strike="noStrike">
                <a:solidFill>
                  <a:srgbClr val="3b3a1d"/>
                </a:solidFill>
                <a:latin typeface="Corbel"/>
              </a:rPr>
              <a:t>лућни крвни судови пружају веома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rbel"/>
              </a:rPr>
              <a:t>м</a:t>
            </a:r>
            <a:r>
              <a:rPr b="1" lang="en-US" sz="1400" spc="-1" strike="noStrike">
                <a:solidFill>
                  <a:srgbClr val="3b3a1d"/>
                </a:solidFill>
                <a:latin typeface="Corbel"/>
              </a:rPr>
              <a:t>али отпор великом протоку крви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3a1d"/>
                </a:solidFill>
                <a:latin typeface="Corbel"/>
              </a:rPr>
              <a:t>знатна опструкција плућног васкуларног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3a1d"/>
                </a:solidFill>
                <a:latin typeface="Corbel"/>
              </a:rPr>
              <a:t>корита,не узрокује битнији пораст PAP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3a1d"/>
                </a:solidFill>
                <a:latin typeface="Corbel"/>
              </a:rPr>
              <a:t>(</a:t>
            </a:r>
            <a:r>
              <a:rPr b="1" lang="en-US" sz="1400" spc="-1" strike="noStrike">
                <a:solidFill>
                  <a:srgbClr val="3b3a1d"/>
                </a:solidFill>
                <a:latin typeface="Calibri"/>
              </a:rPr>
              <a:t>↑50%)</a:t>
            </a:r>
            <a:r>
              <a:rPr b="1" lang="en-US" sz="1400" spc="-1" strike="noStrike">
                <a:solidFill>
                  <a:srgbClr val="3b3a1d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94" name="Rectangle 10"/>
          <p:cNvSpPr/>
          <p:nvPr/>
        </p:nvSpPr>
        <p:spPr>
          <a:xfrm>
            <a:off x="4572000" y="3500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95" name="Rectangle 14"/>
          <p:cNvSpPr/>
          <p:nvPr/>
        </p:nvSpPr>
        <p:spPr>
          <a:xfrm>
            <a:off x="4572000" y="500076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96" name="Rectangle 15"/>
          <p:cNvSpPr/>
          <p:nvPr/>
        </p:nvSpPr>
        <p:spPr>
          <a:xfrm>
            <a:off x="2714760" y="3929040"/>
            <a:ext cx="4032000" cy="113508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orbel"/>
              </a:rPr>
              <a:t>ЗВ</a:t>
            </a:r>
            <a:r>
              <a:rPr b="1" lang="sr-CS" sz="1400" spc="-1" strike="noStrike">
                <a:solidFill>
                  <a:srgbClr val="001116"/>
                </a:solidFill>
                <a:latin typeface="Corbel"/>
              </a:rPr>
              <a:t>важна улога у настанку </a:t>
            </a:r>
            <a:r>
              <a:rPr b="1" lang="sr-Latn-RS" sz="1400" spc="-1" strike="noStrike">
                <a:solidFill>
                  <a:srgbClr val="3b3a1d"/>
                </a:solidFill>
                <a:latin typeface="Corbel"/>
              </a:rPr>
              <a:t>PAH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Corbel"/>
              </a:rPr>
              <a:t>вазоконстрикција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1116"/>
                </a:solidFill>
                <a:latin typeface="Corbel"/>
              </a:rPr>
              <a:t>(</a:t>
            </a:r>
            <a:r>
              <a:rPr b="1" lang="sr-RS" sz="1400" spc="-1" strike="noStrike">
                <a:solidFill>
                  <a:srgbClr val="001116"/>
                </a:solidFill>
                <a:latin typeface="Corbel"/>
              </a:rPr>
              <a:t>дејство вазоактивних супстанци из Тр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1116"/>
                </a:solidFill>
                <a:latin typeface="Corbel"/>
              </a:rPr>
              <a:t>с</a:t>
            </a:r>
            <a:r>
              <a:rPr b="1" lang="sr-RS" sz="1400" spc="-1" strike="noStrike">
                <a:solidFill>
                  <a:srgbClr val="001116"/>
                </a:solidFill>
                <a:latin typeface="Corbel"/>
              </a:rPr>
              <a:t>еротонин,тромбоксан и надражај барорецептора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1116"/>
                </a:solidFill>
                <a:latin typeface="Corbel"/>
              </a:rPr>
              <a:t>плућне артерије)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97" name="Rectangle 16"/>
          <p:cNvSpPr/>
          <p:nvPr/>
        </p:nvSpPr>
        <p:spPr>
          <a:xfrm>
            <a:off x="2428920" y="5357880"/>
            <a:ext cx="4643280" cy="121428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1116"/>
                </a:solidFill>
                <a:latin typeface="Corbel"/>
              </a:rPr>
              <a:t>Н</a:t>
            </a:r>
            <a:r>
              <a:rPr b="1" lang="sr-RS" sz="1600" spc="-1" strike="noStrike">
                <a:solidFill>
                  <a:srgbClr val="001116"/>
                </a:solidFill>
                <a:latin typeface="Corbel"/>
              </a:rPr>
              <a:t>агли пораст </a:t>
            </a:r>
            <a:r>
              <a:rPr b="1" lang="sr-RS" sz="1600" spc="-1" strike="noStrike">
                <a:solidFill>
                  <a:srgbClr val="ff0000"/>
                </a:solidFill>
                <a:latin typeface="Corbel"/>
              </a:rPr>
              <a:t>плућне 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Corbel"/>
              </a:rPr>
              <a:t>васкуларне резистенције</a:t>
            </a:r>
            <a:r>
              <a:rPr b="1" lang="sr-Latn-RS" sz="1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3b3a1d"/>
                </a:solidFill>
                <a:latin typeface="Calibri"/>
              </a:rPr>
              <a:t>↑ </a:t>
            </a:r>
            <a:r>
              <a:rPr b="1" lang="sr-Latn-RS" sz="1600" spc="-1" strike="noStrike">
                <a:solidFill>
                  <a:srgbClr val="3b3a1d"/>
                </a:solidFill>
                <a:latin typeface="Calibri"/>
              </a:rPr>
              <a:t>PAH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b3a1d"/>
                </a:solidFill>
                <a:latin typeface="Calibri"/>
              </a:rPr>
              <a:t>А</a:t>
            </a:r>
            <a:r>
              <a:rPr b="1" lang="sr-RS" sz="1600" spc="-1" strike="noStrike">
                <a:solidFill>
                  <a:srgbClr val="3b3a1d"/>
                </a:solidFill>
                <a:latin typeface="Calibri"/>
              </a:rPr>
              <a:t>кутно оптерећење ДС притиском и волуменом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b3a1d"/>
                </a:solidFill>
                <a:latin typeface="Calibri"/>
              </a:rPr>
              <a:t>А</a:t>
            </a:r>
            <a:r>
              <a:rPr b="1" lang="sr-RS" sz="1600" spc="-1" strike="noStrike">
                <a:solidFill>
                  <a:srgbClr val="3b3a1d"/>
                </a:solidFill>
                <a:latin typeface="Calibri"/>
              </a:rPr>
              <a:t>кутна дилатација ДС – Акутно плућно срце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Хемодинамске последице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652400" y="1557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0" name="Rectangle 4"/>
          <p:cNvSpPr/>
          <p:nvPr/>
        </p:nvSpPr>
        <p:spPr>
          <a:xfrm>
            <a:off x="1332000" y="1052640"/>
            <a:ext cx="3454200" cy="127476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7791"/>
                </a:solidFill>
                <a:latin typeface="Comic Sans MS"/>
              </a:rPr>
              <a:t>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↑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плућне резистенциј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↓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↑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плућног аретријског притиск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оптерећење десне комор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1" name="Rectangle 5"/>
          <p:cNvSpPr/>
          <p:nvPr/>
        </p:nvSpPr>
        <p:spPr>
          <a:xfrm>
            <a:off x="1258920" y="2637000"/>
            <a:ext cx="2376360" cy="576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дилатациј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дисфинкција Д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2" name="Rectangle 14"/>
          <p:cNvSpPr/>
          <p:nvPr/>
        </p:nvSpPr>
        <p:spPr>
          <a:xfrm>
            <a:off x="5724360" y="1557360"/>
            <a:ext cx="2481480" cy="30708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        ↑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притисак Д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5028120" y="1413000"/>
            <a:ext cx="51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b3a1d"/>
                </a:solidFill>
                <a:latin typeface="Comic Sans MS"/>
              </a:rPr>
              <a:t> →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4" name="Rectangle 16"/>
          <p:cNvSpPr/>
          <p:nvPr/>
        </p:nvSpPr>
        <p:spPr>
          <a:xfrm>
            <a:off x="2577960" y="2205000"/>
            <a:ext cx="4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5" name="Rectangle 17"/>
          <p:cNvSpPr/>
          <p:nvPr/>
        </p:nvSpPr>
        <p:spPr>
          <a:xfrm>
            <a:off x="3780000" y="2637000"/>
            <a:ext cx="2519280" cy="55692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исхемија Д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6" name="Rectangle 18"/>
          <p:cNvSpPr/>
          <p:nvPr/>
        </p:nvSpPr>
        <p:spPr>
          <a:xfrm>
            <a:off x="3276720" y="2637000"/>
            <a:ext cx="77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b3a1d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←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7" name="Rectangle 19"/>
          <p:cNvSpPr/>
          <p:nvPr/>
        </p:nvSpPr>
        <p:spPr>
          <a:xfrm>
            <a:off x="6372360" y="2565360"/>
            <a:ext cx="2484360" cy="70164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↑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кисеонични захтев Д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↓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снабдевање О2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8" name="Rectangle 20"/>
          <p:cNvSpPr/>
          <p:nvPr/>
        </p:nvSpPr>
        <p:spPr>
          <a:xfrm>
            <a:off x="6039720" y="2637000"/>
            <a:ext cx="4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←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09" name="Line 28"/>
          <p:cNvSpPr/>
          <p:nvPr/>
        </p:nvSpPr>
        <p:spPr>
          <a:xfrm flipH="1">
            <a:off x="2268000" y="3357720"/>
            <a:ext cx="576360" cy="358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0" name="Line 29"/>
          <p:cNvSpPr/>
          <p:nvPr/>
        </p:nvSpPr>
        <p:spPr>
          <a:xfrm>
            <a:off x="3276720" y="3357720"/>
            <a:ext cx="720720" cy="358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1" name="Rectangle 23"/>
          <p:cNvSpPr/>
          <p:nvPr/>
        </p:nvSpPr>
        <p:spPr>
          <a:xfrm>
            <a:off x="1403280" y="3933720"/>
            <a:ext cx="2121120" cy="5202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↓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ударни волумен Д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3708360" y="3933720"/>
            <a:ext cx="2649600" cy="30708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  </a:t>
            </a: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померање септума ка Л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3" name="Rectangle 25"/>
          <p:cNvSpPr/>
          <p:nvPr/>
        </p:nvSpPr>
        <p:spPr>
          <a:xfrm>
            <a:off x="2195640" y="4653000"/>
            <a:ext cx="2376360" cy="5763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смањен прилив у Л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4" name="Line 39"/>
          <p:cNvSpPr/>
          <p:nvPr/>
        </p:nvSpPr>
        <p:spPr>
          <a:xfrm>
            <a:off x="2411280" y="4292640"/>
            <a:ext cx="72072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5" name="Line 38"/>
          <p:cNvSpPr/>
          <p:nvPr/>
        </p:nvSpPr>
        <p:spPr>
          <a:xfrm flipH="1">
            <a:off x="3780000" y="4292640"/>
            <a:ext cx="79200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6" name="Rectangle 30"/>
          <p:cNvSpPr/>
          <p:nvPr/>
        </p:nvSpPr>
        <p:spPr>
          <a:xfrm>
            <a:off x="2195640" y="5373720"/>
            <a:ext cx="2376360" cy="5763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смањен ударни волумен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7" name="Rectangle 33"/>
          <p:cNvSpPr/>
          <p:nvPr/>
        </p:nvSpPr>
        <p:spPr>
          <a:xfrm>
            <a:off x="1928880" y="6093000"/>
            <a:ext cx="2928960" cy="576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хипоперфизија свих орган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8" name="Rectangle 34"/>
          <p:cNvSpPr/>
          <p:nvPr/>
        </p:nvSpPr>
        <p:spPr>
          <a:xfrm>
            <a:off x="3154320" y="5013360"/>
            <a:ext cx="4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19" name="Rectangle 35"/>
          <p:cNvSpPr/>
          <p:nvPr/>
        </p:nvSpPr>
        <p:spPr>
          <a:xfrm>
            <a:off x="3154320" y="5805360"/>
            <a:ext cx="4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0" name="Rectangle 36"/>
          <p:cNvSpPr/>
          <p:nvPr/>
        </p:nvSpPr>
        <p:spPr>
          <a:xfrm>
            <a:off x="6012000" y="5445000"/>
            <a:ext cx="2376360" cy="5763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b3a1d"/>
                </a:solidFill>
                <a:latin typeface="Comic Sans MS"/>
              </a:rPr>
              <a:t>хипотензија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1" name="Rectangle 37"/>
          <p:cNvSpPr/>
          <p:nvPr/>
        </p:nvSpPr>
        <p:spPr>
          <a:xfrm>
            <a:off x="4788000" y="5373720"/>
            <a:ext cx="5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b3a1d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→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2" name="Rectangle 38"/>
          <p:cNvSpPr/>
          <p:nvPr/>
        </p:nvSpPr>
        <p:spPr>
          <a:xfrm>
            <a:off x="7115040" y="5013360"/>
            <a:ext cx="4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↑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3" name="Rectangle 39"/>
          <p:cNvSpPr/>
          <p:nvPr/>
        </p:nvSpPr>
        <p:spPr>
          <a:xfrm>
            <a:off x="6012000" y="4508640"/>
            <a:ext cx="2376360" cy="57600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смањен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b3a1d"/>
                </a:solidFill>
                <a:latin typeface="Comic Sans MS"/>
              </a:rPr>
              <a:t>коронарни проток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4" name="Rectangle 40"/>
          <p:cNvSpPr/>
          <p:nvPr/>
        </p:nvSpPr>
        <p:spPr>
          <a:xfrm>
            <a:off x="7164360" y="400536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↑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5" name="Line 43"/>
          <p:cNvSpPr/>
          <p:nvPr/>
        </p:nvSpPr>
        <p:spPr>
          <a:xfrm flipH="1">
            <a:off x="8459280" y="4797360"/>
            <a:ext cx="468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6" name="Line 41"/>
          <p:cNvSpPr/>
          <p:nvPr/>
        </p:nvSpPr>
        <p:spPr>
          <a:xfrm>
            <a:off x="8317080" y="1700280"/>
            <a:ext cx="68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27" name="Line 42"/>
          <p:cNvSpPr/>
          <p:nvPr/>
        </p:nvSpPr>
        <p:spPr>
          <a:xfrm>
            <a:off x="8964720" y="1773360"/>
            <a:ext cx="0" cy="30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и облици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масивна плућна ембол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субмасивна плућна ембол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плућни инфар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хронична плућна хипертенз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И ОБЛИЦИ ПТЕ</a:t>
            </a:r>
            <a:br>
              <a:rPr sz="4000"/>
            </a:br>
            <a:r>
              <a:rPr b="0" lang="sr-Latn-CS" sz="2400" spc="-1" strike="noStrike">
                <a:solidFill>
                  <a:srgbClr val="ffcc00"/>
                </a:solidFill>
                <a:latin typeface="Calibri"/>
              </a:rPr>
              <a:t>European Society of Cardiology 2000</a:t>
            </a:r>
            <a:br>
              <a:rPr sz="2000"/>
            </a:b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cc00"/>
                </a:solidFill>
                <a:latin typeface="Calibri"/>
                <a:ea typeface="Calibri"/>
              </a:rPr>
              <a:t>МАСИВН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ЗНАЦИ ШОКА и/или ХИПОТЕНЗИЈ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систолни притисак ≤ 90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Calibri"/>
              </a:rPr>
              <a:t>mmHg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пад притиска за ≥ 40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Calibri"/>
              </a:rPr>
              <a:t>mmHg</a:t>
            </a: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 за &gt;15мин. ако није изазван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наглим поремећајем ритма, хиповолемијом, сепсом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cc00"/>
                </a:solidFill>
                <a:latin typeface="Calibri"/>
                <a:ea typeface="Calibri"/>
              </a:rPr>
              <a:t>СУБМАСИВНА</a:t>
            </a:r>
            <a:r>
              <a:rPr b="0" lang="sr-CS" sz="2300" spc="-1" strike="noStrike">
                <a:solidFill>
                  <a:srgbClr val="ffcc00"/>
                </a:solidFill>
                <a:latin typeface="Calibri"/>
                <a:ea typeface="Calibri"/>
              </a:rPr>
              <a:t> </a:t>
            </a:r>
            <a:r>
              <a:rPr b="0" lang="sr-CS" sz="2300" spc="-1" strike="noStrike">
                <a:solidFill>
                  <a:srgbClr val="ffffff"/>
                </a:solidFill>
                <a:latin typeface="Calibri"/>
                <a:ea typeface="Calibri"/>
              </a:rPr>
              <a:t>(ехокардиографски знаци дискинезије ДК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cc00"/>
                </a:solidFill>
                <a:latin typeface="Calibri"/>
                <a:ea typeface="Calibri"/>
              </a:rPr>
              <a:t>НЕМАСИВН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cc00"/>
                </a:solidFill>
                <a:latin typeface="Calibri"/>
                <a:ea typeface="Arial"/>
              </a:rPr>
              <a:t>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3" descr=""/>
          <p:cNvPicPr/>
          <p:nvPr/>
        </p:nvPicPr>
        <p:blipFill>
          <a:blip r:embed="rId2"/>
          <a:stretch/>
        </p:blipFill>
        <p:spPr>
          <a:xfrm>
            <a:off x="66600" y="414360"/>
            <a:ext cx="9010800" cy="602928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4"/>
          <p:cNvSpPr/>
          <p:nvPr/>
        </p:nvSpPr>
        <p:spPr>
          <a:xfrm>
            <a:off x="4220640" y="111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alibri"/>
              </a:rPr>
              <a:t>Podela po Braundwaldu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Calibri"/>
                <a:ea typeface="Calibri"/>
              </a:rPr>
              <a:t>Акутна масивна </a:t>
            </a:r>
            <a:r>
              <a:rPr b="0" lang="sr-CS" sz="4000" spc="-1" strike="noStrike">
                <a:solidFill>
                  <a:srgbClr val="ffff00"/>
                </a:solidFill>
                <a:latin typeface="Calibri"/>
                <a:ea typeface="Calibri"/>
              </a:rPr>
              <a:t>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rbel"/>
              </a:rPr>
              <a:t>Оклузија плућне циркулације &gt; 50% </a:t>
            </a:r>
            <a:r>
              <a:rPr b="0" lang="sr-RS" sz="28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rbel"/>
              </a:rPr>
              <a:t>Болест настаје нагло са клиничком сликом  шок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b2e389"/>
                </a:solidFill>
                <a:latin typeface="Corbel"/>
              </a:rPr>
              <a:t>Болесник ј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блед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тахипноичан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тахикардичан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цијанотича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хладних екстремитет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са набреклим  венама на врат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00"/>
                </a:solidFill>
                <a:latin typeface="Corbel"/>
              </a:rPr>
              <a:t>шок 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Calibri"/>
                <a:ea typeface="Calibri"/>
              </a:rPr>
              <a:t>Субмасивна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роузрокована је мултипним емболусима мале или средње </a:t>
            </a:r>
            <a:r>
              <a:rPr b="0" lang="sr-CS" sz="3000" spc="-1" strike="noStrike">
                <a:solidFill>
                  <a:srgbClr val="ffff00"/>
                </a:solidFill>
                <a:latin typeface="Corbel"/>
              </a:rPr>
              <a:t>величине који се акумулирају током неколико недељ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Болесници су </a:t>
            </a:r>
            <a:r>
              <a:rPr b="0" lang="sr-CS" sz="3000" spc="-1" strike="noStrike">
                <a:solidFill>
                  <a:srgbClr val="ffff00"/>
                </a:solidFill>
                <a:latin typeface="Corbel"/>
              </a:rPr>
              <a:t>хемодинамски стабилни 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lang="sr-CS" sz="2000" spc="-1" strike="noStrike">
                <a:solidFill>
                  <a:srgbClr val="ffffff"/>
                </a:solidFill>
                <a:latin typeface="Corbel"/>
              </a:rPr>
              <a:t>нормалан системски притисак, јер је функција леве коморе очувана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Инсуфицијенција десне коморе потврђена ехокардиографс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99"/>
                </a:solidFill>
                <a:latin typeface="Corbel"/>
              </a:rPr>
              <a:t>Клинички знац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0" name="Rectangle 8"/>
          <p:cNvSpPr/>
          <p:nvPr/>
        </p:nvSpPr>
        <p:spPr>
          <a:xfrm>
            <a:off x="3492360" y="5227560"/>
            <a:ext cx="5616720" cy="1514520"/>
          </a:xfrm>
          <a:prstGeom prst="rect">
            <a:avLst/>
          </a:prstGeom>
          <a:solidFill>
            <a:srgbClr val="000000"/>
          </a:solidFill>
          <a:ln cap="sq" w="1908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5f779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диспнеја, тахипнеја, тахикардиј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бол у грудим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кашаљ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централна цијаноз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5f779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5f779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alibri"/>
              </a:rPr>
              <a:t>РТГ плућа</a:t>
            </a:r>
            <a:r>
              <a:rPr b="0" lang="sr-Latn-CS" sz="4000" spc="-1" strike="noStrike">
                <a:solidFill>
                  <a:srgbClr val="ffff66"/>
                </a:solidFill>
                <a:latin typeface="Calibri"/>
              </a:rPr>
              <a:t>: </a:t>
            </a:r>
            <a:r>
              <a:rPr b="0" lang="sr-CS" sz="4000" spc="-1" strike="noStrike">
                <a:solidFill>
                  <a:srgbClr val="ffff66"/>
                </a:solidFill>
                <a:latin typeface="Calibri"/>
              </a:rPr>
              <a:t>субмасивна </a:t>
            </a:r>
            <a:r>
              <a:rPr b="0" lang="sr-CS" sz="4000" spc="-1" strike="noStrike">
                <a:solidFill>
                  <a:srgbClr val="ffff66"/>
                </a:solidFill>
                <a:latin typeface="Calibri"/>
              </a:rPr>
              <a:t>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одигнута дијафраг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лочасте ателектазе базалн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Линеарне тракасте сенке паралелне са дијафрагмом 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Fleischner-ov znak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Велики делови плућа без васкуларне шаре 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Westermark-ov znak)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леурални излив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лућна консолидац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243" name="Object 0"/>
          <p:cNvGraphicFramePr/>
          <p:nvPr/>
        </p:nvGraphicFramePr>
        <p:xfrm>
          <a:off x="4572000" y="2349360"/>
          <a:ext cx="383688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49360"/>
                    <a:ext cx="383688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5" name="Picture 2" descr="28"/>
          <p:cNvPicPr/>
          <p:nvPr/>
        </p:nvPicPr>
        <p:blipFill>
          <a:blip r:embed="rId3"/>
          <a:stretch/>
        </p:blipFill>
        <p:spPr>
          <a:xfrm>
            <a:off x="468360" y="2421000"/>
            <a:ext cx="3672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/>
          </p:nvPr>
        </p:nvSpPr>
        <p:spPr>
          <a:xfrm>
            <a:off x="457200" y="20984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hr-H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Инциденц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Т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великој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мер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одцење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hr-H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Непоуздан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линичк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hr-H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Недовољно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рецизних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тестов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отврд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линичк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успектн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Т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hr-H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Због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различитог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тепен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испољавањ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масивн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акутним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оптерећењем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есн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омор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микроембоилиј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кој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могу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бити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асимптоматск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,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                   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30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60%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н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дијагностикује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живот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(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отврд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аутопсијских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налаза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             </a:t>
            </a:r>
            <a:r>
              <a:rPr b="0" lang="hr-H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hr-HR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Реалн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инциденц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10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у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виш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процењен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Тромбоемболија</a:t>
            </a:r>
            <a:r>
              <a:rPr b="0" lang="hr-HR" sz="3600" spc="-1" strike="noStrike">
                <a:solidFill>
                  <a:srgbClr val="ffff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плућа</a:t>
            </a:r>
            <a:r>
              <a:rPr b="0" lang="hr-HR" sz="3600" spc="-1" strike="noStrike">
                <a:solidFill>
                  <a:srgbClr val="ffff00"/>
                </a:solidFill>
                <a:latin typeface="Consola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nsolas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актуелни</a:t>
            </a:r>
            <a:r>
              <a:rPr b="0" lang="hr-HR" sz="3600" spc="-1" strike="noStrike">
                <a:solidFill>
                  <a:srgbClr val="ffff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Consolas"/>
              </a:rPr>
              <a:t>проблеми</a:t>
            </a:r>
            <a:r>
              <a:rPr b="0" lang="en-GB" sz="3600" spc="-1" strike="noStrike">
                <a:solidFill>
                  <a:srgbClr val="ffff00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НЕМАСИВНА (АКУТНА МАЛА) </a:t>
            </a:r>
            <a:r>
              <a:rPr b="0" lang="sr-CS" sz="4000" spc="-1" strike="noStrike">
                <a:solidFill>
                  <a:srgbClr val="ffff00"/>
                </a:solidFill>
                <a:latin typeface="Calibri"/>
                <a:ea typeface="Calibri"/>
              </a:rPr>
              <a:t>ПТЕ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мболија једне или више субсегментних грана плућне артериј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rbel"/>
              </a:rPr>
              <a:t>Често асимптоматска, или оскудни симптоми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испнеја, бол у грудима, страх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Нормална хемодинамика и нормална величина и функција десне комор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Плућни инфар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56840" y="1285560"/>
            <a:ext cx="84358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стаје при оклузији мање периферне гране плућне артерије када изостане колатерални бронхијални крвоток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имптоми и знаци  се јављају 3-7 дана од оклузије - 10% болесник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спноја, плеурални бол и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емоптизије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вишена температура преко 39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 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- инфламирани инфаркт или пнеумониј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alibri"/>
                <a:ea typeface="Calibri"/>
              </a:rPr>
              <a:t>Ален-ов тријас 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– 3Т: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Т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ахипноја,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Т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ахикардија,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Т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мпература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ff33"/>
                </a:solidFill>
                <a:latin typeface="Calibri"/>
                <a:ea typeface="Calibri"/>
              </a:rPr>
              <a:t>Ro</a:t>
            </a:r>
            <a:r>
              <a:rPr b="0" lang="en-US" sz="2400" spc="-1" strike="noStrike">
                <a:solidFill>
                  <a:srgbClr val="66ff33"/>
                </a:solidFill>
                <a:latin typeface="Calibri"/>
                <a:ea typeface="Calibri"/>
              </a:rPr>
              <a:t> знаци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:  клинасти изглед у костофреничном синусу са конвекститетом према хилусу- </a:t>
            </a:r>
            <a:r>
              <a:rPr b="0" lang="en-US" sz="2400" spc="-1" strike="noStrike">
                <a:solidFill>
                  <a:srgbClr val="66ff33"/>
                </a:solidFill>
                <a:latin typeface="Calibri"/>
                <a:ea typeface="Calibri"/>
              </a:rPr>
              <a:t>Хамптонова грба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, бр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нхопнеумонија, излив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илтрати трају дуже од две недељ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50" name="Content Placeholder 3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708440" cy="3806640"/>
          </a:xfrm>
          <a:prstGeom prst="rect">
            <a:avLst/>
          </a:prstGeom>
          <a:ln w="0">
            <a:noFill/>
          </a:ln>
        </p:spPr>
      </p:pic>
      <p:sp>
        <p:nvSpPr>
          <p:cNvPr id="1251" name="Rectangle 4"/>
          <p:cNvSpPr/>
          <p:nvPr/>
        </p:nvSpPr>
        <p:spPr>
          <a:xfrm>
            <a:off x="4184280" y="4633920"/>
            <a:ext cx="2754720" cy="52056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амптонова грба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22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Хронична плућна хипертенз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3" name="Rectangle 4"/>
          <p:cNvSpPr/>
          <p:nvPr/>
        </p:nvSpPr>
        <p:spPr>
          <a:xfrm>
            <a:off x="468360" y="2060640"/>
            <a:ext cx="8675640" cy="36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 </a:t>
            </a: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понављање плућних емболија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 </a:t>
            </a: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настаје постепено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 </a:t>
            </a: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погоршава се са новим епизодама плућних емболија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 </a:t>
            </a:r>
            <a:r>
              <a:rPr b="1" lang="sr-CS" sz="2800" spc="-1" strike="noStrike">
                <a:solidFill>
                  <a:srgbClr val="292929"/>
                </a:solidFill>
                <a:latin typeface="Corbel"/>
              </a:rPr>
              <a:t>одгова клиничкој слици хроничног плућног срца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3b3a1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3b3a1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3b3a1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49644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alibri"/>
                <a:ea typeface="Calibri"/>
              </a:rPr>
              <a:t>Дијагностички поступц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285840" y="1381680"/>
            <a:ext cx="86868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1.   </a:t>
            </a: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Клинички симптоми и знаци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2.     Лабораторијске анализе 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3.     Рендгенограм плућа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4.     ЕЛЕКТРОКАРДИОГРАМ - ехокардиограм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5.     Радиоизитопски сцинтиграм плућа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6.     Ехосонографија дубоких вена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7.     Компјутеризована томографија 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8.     Магнетна резонанца</a:t>
            </a:r>
            <a:br>
              <a:rPr sz="2000"/>
            </a:b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 9.     Плућна ангиографија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2"/>
          <p:cNvSpPr/>
          <p:nvPr/>
        </p:nvSpPr>
        <p:spPr>
          <a:xfrm>
            <a:off x="0" y="40464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Симптоми и знаци код потврђеног ПЕ</a:t>
            </a: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900000" y="1413000"/>
          <a:ext cx="7489800" cy="4632120"/>
        </p:xfrm>
        <a:graphic>
          <a:graphicData uri="http://schemas.openxmlformats.org/drawingml/2006/table">
            <a:tbl>
              <a:tblPr/>
              <a:tblGrid>
                <a:gridCol w="3897360"/>
                <a:gridCol w="3592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  <a:ea typeface="Times New Roman"/>
                        </a:rPr>
                        <a:t>Симптом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  <a:ea typeface="Times New Roman"/>
                        </a:rPr>
                        <a:t>Апроксимат. преваленциј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Диспнеј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Бол у грудима (плеурални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Бол у грудима (субстернални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Кашаљ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Синкоп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Хемоптизиј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80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52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19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11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  <a:ea typeface="Times New Roman"/>
                        </a:rPr>
                        <a:t>Знац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  <a:ea typeface="Times New Roman"/>
                        </a:rPr>
                        <a:t>Апроксимат. преваленциј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Тахипнеја</a:t>
                      </a:r>
                      <a:r>
                        <a:rPr b="1" lang="pl-PL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&gt; 20/</a:t>
                      </a:r>
                      <a:r>
                        <a:rPr b="1" lang="sr-R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Тахикардија</a:t>
                      </a: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 &gt; 100/</a:t>
                      </a: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Знаци ДВ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Цијаноз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Температура</a:t>
                      </a: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 &gt; 38 C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70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26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15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11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1ab39f"/>
                      </a:solidFill>
                    </a:lnL>
                    <a:lnR w="5760">
                      <a:solidFill>
                        <a:srgbClr val="1ab39f"/>
                      </a:solidFill>
                    </a:lnR>
                    <a:lnT w="5760">
                      <a:solidFill>
                        <a:srgbClr val="1ab39f"/>
                      </a:solidFill>
                    </a:lnT>
                    <a:lnB w="5760">
                      <a:solidFill>
                        <a:srgbClr val="1ab39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Анамнеза и физикални преглед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85800" y="18352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Диспнеја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је најчешћи симптом ПЕ претходне кардиореспираторне болест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Синкопа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указује на масивну, по живот опасну П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Плеурални бо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казује на малу, дисталну ПЕ 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хемоптизиј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упућује на инфаркт плућ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Може постојати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туп бол у грудим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Тахипнеја и тахикардија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у најчешћи знаци П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Аускултаторни налаз на плућима је најчешће нормалан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Хипотензија и цијаноза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казују на масивну П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Могу постојати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знаци дубоке венске тромбозе доњих екстремитета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(едем, Хоманов знак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ЛАБОРАТОРИЈСКЕ АНАЛИЗ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Д димер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градни продукт фибрина који настаје деловањем плазмин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Висока сензитивност али мала специфичнос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вишен ниво у плазми код разградње тромба, неоплазме, сепсе, после операције, инфаркт миокарда, системских болест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Д димер</a:t>
            </a:r>
            <a:r>
              <a:rPr b="0" lang="sr-Latn-CS" sz="2800" spc="-1" strike="noStrike">
                <a:solidFill>
                  <a:srgbClr val="ffff00"/>
                </a:solidFill>
                <a:latin typeface="Calibri"/>
                <a:ea typeface="Calibri"/>
              </a:rPr>
              <a:t> &gt; 500 j</a:t>
            </a:r>
            <a:r>
              <a:rPr b="0" lang="sr-Latn-CS" sz="26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УЗДАН – да искључи ВТ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 ПОУЗДАН – код хоспитализованих болесник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2" name="Rectangle 5"/>
          <p:cNvSpPr/>
          <p:nvPr/>
        </p:nvSpPr>
        <p:spPr>
          <a:xfrm>
            <a:off x="714240" y="4797360"/>
            <a:ext cx="7786800" cy="10857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Рендгенограм плућ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287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Помоћ у дијагностици           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</a:t>
            </a: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ниска сензитивност и специфичност                    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</a:t>
            </a:r>
            <a:r>
              <a:rPr b="1" lang="ru-RU" sz="2100" spc="-1" strike="noStrike">
                <a:solidFill>
                  <a:srgbClr val="ffff00"/>
                </a:solidFill>
                <a:latin typeface="Calibri"/>
                <a:ea typeface="Calibri"/>
              </a:rPr>
              <a:t>нормалан налаз – различити знаци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13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и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плочасте ателектазе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локализована повећана прозрачност плућа и губитак васкуларне шаре (</a:t>
            </a:r>
            <a:r>
              <a:rPr b="0" lang="hr-HR" sz="2100" spc="-1" strike="noStrike">
                <a:solidFill>
                  <a:srgbClr val="ffffff"/>
                </a:solidFill>
                <a:latin typeface="Calibri"/>
                <a:ea typeface="Calibri"/>
              </a:rPr>
              <a:t>Wastermarkov </a:t>
            </a: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знак)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повећана сенка хилуса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истакнут лук а.пулмоналис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плеурални излив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libri"/>
                <a:ea typeface="Calibri"/>
              </a:rPr>
              <a:t>подигнута хемидијафрагма (због пнеумоконстрикције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Calibri"/>
                <a:ea typeface="Calibri"/>
              </a:rPr>
              <a:t>Линеарне тракасте сенке паралелне са дијафрагмом </a:t>
            </a:r>
            <a:r>
              <a:rPr b="0" lang="sr-Latn-CS" sz="2100" spc="-1" strike="noStrike">
                <a:solidFill>
                  <a:srgbClr val="ffffff"/>
                </a:solidFill>
                <a:latin typeface="Calibri"/>
                <a:ea typeface="Calibri"/>
              </a:rPr>
              <a:t>(Fleischner-ov znak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7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65" name="Picture 4" descr="Cover art"/>
          <p:cNvPicPr/>
          <p:nvPr/>
        </p:nvPicPr>
        <p:blipFill>
          <a:blip r:embed="rId1"/>
          <a:stretch/>
        </p:blipFill>
        <p:spPr>
          <a:xfrm>
            <a:off x="611280" y="620640"/>
            <a:ext cx="2322360" cy="308628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3376440" cy="5506920"/>
          </a:xfrm>
          <a:prstGeom prst="rect">
            <a:avLst/>
          </a:prstGeom>
          <a:ln w="0">
            <a:noFill/>
          </a:ln>
        </p:spPr>
      </p:pic>
      <p:sp>
        <p:nvSpPr>
          <p:cNvPr id="1267" name="Rectangle 5"/>
          <p:cNvSpPr/>
          <p:nvPr/>
        </p:nvSpPr>
        <p:spPr>
          <a:xfrm>
            <a:off x="5040360" y="522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такнут лук а.пулмоналис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647960" y="263700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већана сенка хилуса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pic>
        <p:nvPicPr>
          <p:cNvPr id="1269" name="Content Placeholder 3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3411360" cy="28638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4"/>
          <p:cNvSpPr/>
          <p:nvPr/>
        </p:nvSpPr>
        <p:spPr>
          <a:xfrm>
            <a:off x="1487520" y="6237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stermark знак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1523880" y="384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66"/>
                </a:solidFill>
                <a:latin typeface="Arial"/>
                <a:ea typeface="Arial"/>
              </a:rPr>
              <a:t>Рендгенограм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sr-RS" sz="4400" spc="-1" strike="noStrike">
                <a:solidFill>
                  <a:srgbClr val="ffff66"/>
                </a:solidFill>
                <a:latin typeface="Arial"/>
                <a:ea typeface="Arial"/>
              </a:rPr>
              <a:t>плућа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468360" y="2014560"/>
            <a:ext cx="8686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Помоћ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дијагностици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             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ниска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сензитивност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специфичност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              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Нормалан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налаз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–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различити</a:t>
            </a:r>
            <a:r>
              <a:rPr b="1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292929"/>
                </a:solidFill>
                <a:latin typeface="Calibri"/>
              </a:rPr>
              <a:t>знаци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Најчешћи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: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плочасте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ателектазе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плеурални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излив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	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подигнута</a:t>
            </a:r>
            <a:r>
              <a:rPr b="0" lang="hr-HR" sz="28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292929"/>
                </a:solidFill>
                <a:latin typeface="Calibri"/>
              </a:rPr>
              <a:t>хемидијафрагма</a:t>
            </a:r>
            <a:r>
              <a:rPr b="1" lang="en-US" sz="2800" spc="-1" strike="noStrike">
                <a:solidFill>
                  <a:srgbClr val="292929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  <p:pic>
        <p:nvPicPr>
          <p:cNvPr id="1273" name="Picture 3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425840" cy="3743640"/>
          </a:xfrm>
          <a:prstGeom prst="rect">
            <a:avLst/>
          </a:prstGeom>
          <a:ln w="0">
            <a:noFill/>
          </a:ln>
        </p:spPr>
      </p:pic>
      <p:sp>
        <p:nvSpPr>
          <p:cNvPr id="1274" name="Rectangle 4"/>
          <p:cNvSpPr/>
          <p:nvPr/>
        </p:nvSpPr>
        <p:spPr>
          <a:xfrm>
            <a:off x="3564000" y="5013360"/>
            <a:ext cx="26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леурални излив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orbel"/>
              </a:rPr>
              <a:t>плућна консолидациј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43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Електрокардиогра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моћ у дијагностици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ала сензитивност и специфичнос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ормалан налаз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инусна тахикардија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1" lang="ru-RU" sz="3000" spc="-1" strike="noStrike">
                <a:solidFill>
                  <a:srgbClr val="ffff00"/>
                </a:solidFill>
                <a:latin typeface="Corbel"/>
              </a:rPr>
              <a:t>знаци оптерећења десног срц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7" name="Rectangle 3"/>
          <p:cNvSpPr/>
          <p:nvPr/>
        </p:nvSpPr>
        <p:spPr>
          <a:xfrm>
            <a:off x="1000080" y="4599000"/>
            <a:ext cx="6072120" cy="214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292929"/>
                </a:solidFill>
                <a:latin typeface="Calibri"/>
              </a:rPr>
              <a:t>S1Q3T3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libri"/>
              </a:rPr>
              <a:t>P</a:t>
            </a:r>
            <a:r>
              <a:rPr b="0" lang="sr-Latn-RS" sz="20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пулмонале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комплетни или инкомплетни блок десне гране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дубок </a:t>
            </a:r>
            <a:r>
              <a:rPr b="0" lang="sr-Latn-RS" sz="2000" spc="-1" strike="noStrike">
                <a:solidFill>
                  <a:srgbClr val="292929"/>
                </a:solidFill>
                <a:latin typeface="Calibri"/>
              </a:rPr>
              <a:t>S </a:t>
            </a:r>
            <a:r>
              <a:rPr b="0" lang="sr-RS" sz="2000" spc="-1" strike="noStrike">
                <a:solidFill>
                  <a:srgbClr val="292929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292929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6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депресија </a:t>
            </a:r>
            <a:r>
              <a:rPr b="0" lang="sr-Latn-RS" sz="2000" spc="-1" strike="noStrike">
                <a:solidFill>
                  <a:srgbClr val="292929"/>
                </a:solidFill>
                <a:latin typeface="Calibri"/>
              </a:rPr>
              <a:t>ST</a:t>
            </a: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 и негативан талас </a:t>
            </a:r>
            <a:r>
              <a:rPr b="0" lang="sr-Latn-RS" sz="2000" spc="-1" strike="noStrike">
                <a:solidFill>
                  <a:srgbClr val="292929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292929"/>
                </a:solidFill>
                <a:latin typeface="Calibri"/>
              </a:rPr>
              <a:t> у</a:t>
            </a:r>
            <a:r>
              <a:rPr b="0" lang="ru-RU" sz="2000" spc="-1" strike="noStrike">
                <a:solidFill>
                  <a:srgbClr val="292929"/>
                </a:solidFill>
                <a:latin typeface="Calibri"/>
              </a:rPr>
              <a:t> десним прекордијалним одводима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78" name="Down Arrow 4"/>
          <p:cNvSpPr/>
          <p:nvPr/>
        </p:nvSpPr>
        <p:spPr>
          <a:xfrm>
            <a:off x="3857760" y="422424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50-70 %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ацијената са дубоком венском тромбозом (ДВТ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има “ тиху “ ПТЕ (асимптоматску)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Calibri"/>
              </a:rPr>
              <a:t>70-90 % 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ацијената са симптоматском ПТЕ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остоји удружена ДВТ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da1472"/>
                </a:solidFill>
                <a:latin typeface="Calibri"/>
              </a:rPr>
              <a:t>       </a:t>
            </a:r>
            <a:r>
              <a:rPr b="1" lang="sr-RS" sz="3000" spc="-1" strike="noStrike">
                <a:solidFill>
                  <a:srgbClr val="da1472"/>
                </a:solidFill>
                <a:latin typeface="Calibri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357120" y="5716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Венски тромбоемболизам</a:t>
            </a:r>
            <a:r>
              <a:rPr b="0" lang="hr-HR" sz="4000" spc="-1" strike="noStrike">
                <a:solidFill>
                  <a:srgbClr val="ffff00"/>
                </a:solidFill>
                <a:latin typeface="Calibri"/>
              </a:rPr>
              <a:t> (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ВТЕ</a:t>
            </a:r>
            <a:r>
              <a:rPr b="0" lang="hr-HR" sz="40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35" name="Rectangle 1"/>
          <p:cNvSpPr/>
          <p:nvPr/>
        </p:nvSpPr>
        <p:spPr>
          <a:xfrm>
            <a:off x="1619280" y="5084640"/>
            <a:ext cx="648180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ff0000"/>
                </a:solidFill>
                <a:latin typeface="Comic Sans MS"/>
              </a:rPr>
              <a:t>ПТЕ и ДВТ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ве клиничке манифестације 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исте</a:t>
            </a:r>
            <a:r>
              <a:rPr b="1" lang="sr-R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Picture 8" descr="DSCN1212"/>
          <p:cNvPicPr/>
          <p:nvPr/>
        </p:nvPicPr>
        <p:blipFill>
          <a:blip r:embed="rId1"/>
          <a:stretch/>
        </p:blipFill>
        <p:spPr>
          <a:xfrm>
            <a:off x="3632040" y="838080"/>
            <a:ext cx="4140360" cy="2963880"/>
          </a:xfrm>
          <a:prstGeom prst="rect">
            <a:avLst/>
          </a:prstGeom>
          <a:ln w="0">
            <a:noFill/>
          </a:ln>
        </p:spPr>
      </p:pic>
      <p:grpSp>
        <p:nvGrpSpPr>
          <p:cNvPr id="1280" name="Text Box 9"/>
          <p:cNvGrpSpPr/>
          <p:nvPr/>
        </p:nvGrpSpPr>
        <p:grpSpPr>
          <a:xfrm>
            <a:off x="285840" y="3865680"/>
            <a:ext cx="8682120" cy="3016080"/>
            <a:chOff x="285840" y="3865680"/>
            <a:chExt cx="8682120" cy="3016080"/>
          </a:xfrm>
        </p:grpSpPr>
        <p:pic>
          <p:nvPicPr>
            <p:cNvPr id="1281" name="Text Box 9" descr=""/>
            <p:cNvPicPr/>
            <p:nvPr/>
          </p:nvPicPr>
          <p:blipFill>
            <a:blip r:embed="rId2"/>
            <a:stretch/>
          </p:blipFill>
          <p:spPr>
            <a:xfrm>
              <a:off x="285840" y="3865680"/>
              <a:ext cx="86821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"/>
            <p:cNvSpPr/>
            <p:nvPr/>
          </p:nvSpPr>
          <p:spPr>
            <a:xfrm>
              <a:off x="387360" y="3933720"/>
              <a:ext cx="85266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Око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50%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болесника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са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доказаном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ПЕ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има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ЕКГ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знаке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акутног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плућног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срца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Нормалан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налаз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                       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Синусна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тахикардија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Негативан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T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талас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od V1-V4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QR u V1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Блок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десне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гране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  (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комплетни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, 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инкомплетни</a:t>
              </a: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P-</a:t>
              </a:r>
              <a:r>
                <a:rPr b="0" lang="sr-RS" sz="1800" spc="-1" strike="noStrike">
                  <a:solidFill>
                    <a:srgbClr val="292929"/>
                  </a:solidFill>
                  <a:latin typeface="Arial"/>
                  <a:ea typeface="Arial"/>
                </a:rPr>
                <a:t>пулмонале</a:t>
              </a: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283" name="Text Box 15"/>
          <p:cNvSpPr/>
          <p:nvPr/>
        </p:nvSpPr>
        <p:spPr>
          <a:xfrm>
            <a:off x="-36360" y="-27000"/>
            <a:ext cx="521964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292929"/>
                </a:solidFill>
                <a:latin typeface="Comic Sans MS"/>
              </a:rPr>
              <a:t>Дијагностички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292929"/>
                </a:solidFill>
                <a:latin typeface="Comic Sans MS"/>
              </a:rPr>
              <a:t>алгоритам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84" name="Text Box 16"/>
          <p:cNvSpPr/>
          <p:nvPr/>
        </p:nvSpPr>
        <p:spPr>
          <a:xfrm>
            <a:off x="4643280" y="-27000"/>
            <a:ext cx="450072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KG 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85" name="Text Box 12"/>
          <p:cNvSpPr/>
          <p:nvPr/>
        </p:nvSpPr>
        <p:spPr>
          <a:xfrm>
            <a:off x="4111560" y="1600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86" name="Text Box 13"/>
          <p:cNvSpPr/>
          <p:nvPr/>
        </p:nvSpPr>
        <p:spPr>
          <a:xfrm>
            <a:off x="3647160" y="33526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287" name="Text Box 14"/>
          <p:cNvSpPr/>
          <p:nvPr/>
        </p:nvSpPr>
        <p:spPr>
          <a:xfrm>
            <a:off x="4268520" y="335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4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Ехокардиограм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Дилатација десне коморе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Хипокинезија зида ДК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Регургитација на трикуспидном ушћ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Ненормални покрет септум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Дилатација плућне артериј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Трансезофагусна ехокардиографија је прецизниј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за проксималну плућну артериј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8050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Радиоизотопска сцинтиграфија плућ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Препорука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урадити у току 24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h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 од првих симптом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alibri"/>
                <a:ea typeface="Calibri"/>
              </a:rPr>
              <a:t>Нормалан перфузиони сцинтиграм искључује ПТЕ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alibri"/>
                <a:ea typeface="Calibri"/>
              </a:rPr>
              <a:t>Дефекти у перфузији не потврђују дијагноз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31280" y="96480"/>
            <a:ext cx="830124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Tahoma"/>
              </a:rPr>
              <a:t>Ехосонографиј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ahoma"/>
              </a:rPr>
              <a:t>дубоких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ahoma"/>
              </a:rPr>
              <a:t>вен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омпресибилнос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рвних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судова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Визуелизациј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ромба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Прото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рви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447840" indent="-447840"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пацијенат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ем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доказ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VT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ром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ве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емболизирао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ром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присута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пелвични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венам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U/S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обичн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еадеквата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ahoma"/>
              </a:rPr>
              <a:t>Понављање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ahoma"/>
              </a:rPr>
              <a:t>испитиванј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ahoma"/>
              </a:rPr>
              <a:t>периоду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7-14 </a:t>
            </a:r>
            <a:r>
              <a:rPr b="1" lang="sr-RS" sz="2000" spc="-1" strike="noStrike">
                <a:solidFill>
                  <a:srgbClr val="ffffff"/>
                </a:solidFill>
                <a:latin typeface="Tahoma"/>
              </a:rPr>
              <a:t>дана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lvl="3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1294" name="Picture 2" descr="Positive duplex ultrasound showing the popliteal vein"/>
          <p:cNvPicPr/>
          <p:nvPr/>
        </p:nvPicPr>
        <p:blipFill>
          <a:blip r:embed="rId1"/>
          <a:stretch/>
        </p:blipFill>
        <p:spPr>
          <a:xfrm>
            <a:off x="5954760" y="1563840"/>
            <a:ext cx="236232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Плућна ангиограф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00040" y="160020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Calibri"/>
                <a:ea typeface="Calibri"/>
              </a:rPr>
              <a:t>Златни стандард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  <a:ea typeface="Calibri"/>
              </a:rPr>
              <a:t>– референтна метода за откривање ПТ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Calibri"/>
                <a:ea typeface="Calibri"/>
              </a:rPr>
              <a:t>    </a:t>
            </a:r>
            <a:r>
              <a:rPr b="1" i="1" lang="ru-RU" sz="2300" spc="-1" strike="noStrike">
                <a:solidFill>
                  <a:srgbClr val="ffff00"/>
                </a:solidFill>
                <a:latin typeface="Calibri"/>
                <a:ea typeface="Calibri"/>
              </a:rPr>
              <a:t>сензитивност 98%, специфичност 94-98%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  <a:ea typeface="Calibri"/>
              </a:rPr>
              <a:t>ПОСЛЕДЊИ КОРАК – ДА ПОТВРДИ ИЛИ ИСКЉУЧИ ПТ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3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3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Контраиндикације: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1. апсолутне – нема                    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2. релативне - алергија на контраст, конгестивна ср.инсф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тешка пл. хипертензија, ендокардитис            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оузданост опада са опадањем калибра крвног суда                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(субсегментни ниво 66%)        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7" name="Rectangle 3"/>
          <p:cNvSpPr/>
          <p:nvPr/>
        </p:nvSpPr>
        <p:spPr>
          <a:xfrm>
            <a:off x="571680" y="1643040"/>
            <a:ext cx="7929360" cy="1285920"/>
          </a:xfrm>
          <a:prstGeom prst="rect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0" y="96480"/>
            <a:ext cx="9036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Процена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клиничке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вероватноће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пре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спровођења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даљих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дијагностичких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поступак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9" name="Diagram 3" descr=""/>
          <p:cNvPicPr/>
          <p:nvPr/>
        </p:nvPicPr>
        <p:blipFill>
          <a:blip r:embed="rId1"/>
          <a:stretch/>
        </p:blipFill>
        <p:spPr>
          <a:xfrm>
            <a:off x="628560" y="1481040"/>
            <a:ext cx="826632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5796000" y="-27000"/>
            <a:ext cx="33480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292929"/>
                </a:solidFill>
                <a:latin typeface="Comic Sans MS"/>
              </a:rPr>
              <a:t>Скоринг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292929"/>
                </a:solidFill>
                <a:latin typeface="Comic Sans MS"/>
              </a:rPr>
              <a:t>системи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480960" y="4581360"/>
            <a:ext cx="4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611280" y="228600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Wells’ score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(Ann Intern Med 1998)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ff33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Geneva score (Arch Intern Med 2001; Ann Intern Med 2006)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buClr>
                <a:srgbClr val="ff33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Pisa score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(Am J Respir Crit Care Med 1999; Am J Med 2003)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03" name="Text Box 7"/>
          <p:cNvSpPr/>
          <p:nvPr/>
        </p:nvSpPr>
        <p:spPr>
          <a:xfrm>
            <a:off x="0" y="-27000"/>
            <a:ext cx="5796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292929"/>
                </a:solidFill>
                <a:latin typeface="Comic Sans MS"/>
              </a:rPr>
              <a:t>Клиничка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292929"/>
                </a:solidFill>
                <a:latin typeface="Comic Sans MS"/>
              </a:rPr>
              <a:t>вероватноћа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Почетна процена риз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914400" y="2492280"/>
            <a:ext cx="7772400" cy="457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Различити дијагностички и терапијски приступ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6" name="Rectangle 3"/>
          <p:cNvSpPr/>
          <p:nvPr/>
        </p:nvSpPr>
        <p:spPr>
          <a:xfrm>
            <a:off x="3214800" y="1714680"/>
            <a:ext cx="2357280" cy="785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  </a:t>
            </a: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Сумња на плућну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   </a:t>
            </a:r>
            <a:r>
              <a:rPr b="0" lang="sr-CS" sz="1800" spc="-1" strike="noStrike">
                <a:solidFill>
                  <a:srgbClr val="292929"/>
                </a:solidFill>
                <a:latin typeface="Comic Sans MS"/>
              </a:rPr>
              <a:t>е</a:t>
            </a: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мболију (ПЕ)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pic>
        <p:nvPicPr>
          <p:cNvPr id="1307" name="Rectangle 4" descr=""/>
          <p:cNvPicPr/>
          <p:nvPr/>
        </p:nvPicPr>
        <p:blipFill>
          <a:blip r:embed="rId1"/>
          <a:stretch/>
        </p:blipFill>
        <p:spPr>
          <a:xfrm>
            <a:off x="396720" y="4681440"/>
            <a:ext cx="4046760" cy="987480"/>
          </a:xfrm>
          <a:prstGeom prst="rect">
            <a:avLst/>
          </a:prstGeom>
          <a:ln w="0">
            <a:noFill/>
          </a:ln>
        </p:spPr>
      </p:pic>
      <p:sp>
        <p:nvSpPr>
          <p:cNvPr id="1308" name="Rectangle 5"/>
          <p:cNvSpPr/>
          <p:nvPr/>
        </p:nvSpPr>
        <p:spPr>
          <a:xfrm>
            <a:off x="6215040" y="4714920"/>
            <a:ext cx="2357640" cy="785880"/>
          </a:xfrm>
          <a:prstGeom prst="rect">
            <a:avLst/>
          </a:prstGeom>
          <a:solidFill>
            <a:srgbClr val="feb80a"/>
          </a:solidFill>
          <a:ln w="19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ПЕ која није   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високог ризика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09" name="Rectangle 8"/>
          <p:cNvSpPr/>
          <p:nvPr/>
        </p:nvSpPr>
        <p:spPr>
          <a:xfrm>
            <a:off x="3214800" y="2928960"/>
            <a:ext cx="235728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        </a:t>
            </a: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ШОК   или    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  </a:t>
            </a: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ХИПОТЕНЗИЈ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310" name="Down Arrow 9"/>
          <p:cNvGrpSpPr/>
          <p:nvPr/>
        </p:nvGrpSpPr>
        <p:grpSpPr>
          <a:xfrm>
            <a:off x="4005360" y="2371680"/>
            <a:ext cx="755640" cy="609480"/>
            <a:chOff x="4005360" y="2371680"/>
            <a:chExt cx="755640" cy="609480"/>
          </a:xfrm>
        </p:grpSpPr>
        <p:pic>
          <p:nvPicPr>
            <p:cNvPr id="1311" name="Down Arrow 9" descr=""/>
            <p:cNvPicPr/>
            <p:nvPr/>
          </p:nvPicPr>
          <p:blipFill>
            <a:blip r:embed="rId2"/>
            <a:stretch/>
          </p:blipFill>
          <p:spPr>
            <a:xfrm>
              <a:off x="4005360" y="237168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4264200" y="2500200"/>
              <a:ext cx="2426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13" name="Right Arrow 10"/>
          <p:cNvGrpSpPr/>
          <p:nvPr/>
        </p:nvGrpSpPr>
        <p:grpSpPr>
          <a:xfrm>
            <a:off x="5589720" y="2938320"/>
            <a:ext cx="939600" cy="743040"/>
            <a:chOff x="5589720" y="2938320"/>
            <a:chExt cx="939600" cy="743040"/>
          </a:xfrm>
        </p:grpSpPr>
        <p:pic>
          <p:nvPicPr>
            <p:cNvPr id="1314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589720" y="2938320"/>
              <a:ext cx="939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>
              <a:off x="5715000" y="3192480"/>
              <a:ext cx="571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pic>
        <p:nvPicPr>
          <p:cNvPr id="1316" name="Right Arrow 12" descr=""/>
          <p:cNvPicPr/>
          <p:nvPr/>
        </p:nvPicPr>
        <p:blipFill>
          <a:blip r:embed="rId4"/>
          <a:stretch/>
        </p:blipFill>
        <p:spPr>
          <a:xfrm>
            <a:off x="2230560" y="2938320"/>
            <a:ext cx="939600" cy="743040"/>
          </a:xfrm>
          <a:prstGeom prst="rect">
            <a:avLst/>
          </a:prstGeom>
          <a:ln w="0">
            <a:noFill/>
          </a:ln>
        </p:spPr>
      </p:pic>
      <p:sp>
        <p:nvSpPr>
          <p:cNvPr id="1317" name="Flowchart: Decision 13"/>
          <p:cNvSpPr/>
          <p:nvPr/>
        </p:nvSpPr>
        <p:spPr>
          <a:xfrm>
            <a:off x="1000080" y="3000240"/>
            <a:ext cx="1000080" cy="613080"/>
          </a:xfrm>
          <a:prstGeom prst="flowChartDecision">
            <a:avLst/>
          </a:prstGeom>
          <a:solidFill>
            <a:srgbClr val="00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18" name="Flowchart: Decision 15"/>
          <p:cNvSpPr/>
          <p:nvPr/>
        </p:nvSpPr>
        <p:spPr>
          <a:xfrm>
            <a:off x="6715080" y="3000240"/>
            <a:ext cx="928800" cy="613080"/>
          </a:xfrm>
          <a:prstGeom prst="flowChartDecision">
            <a:avLst/>
          </a:prstGeom>
          <a:solidFill>
            <a:srgbClr val="00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НЕ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319" name="Down Arrow 16"/>
          <p:cNvGrpSpPr/>
          <p:nvPr/>
        </p:nvGrpSpPr>
        <p:grpSpPr>
          <a:xfrm>
            <a:off x="1152360" y="3730680"/>
            <a:ext cx="743040" cy="1012680"/>
            <a:chOff x="1152360" y="3730680"/>
            <a:chExt cx="743040" cy="1012680"/>
          </a:xfrm>
        </p:grpSpPr>
        <p:pic>
          <p:nvPicPr>
            <p:cNvPr id="1320" name="Down Arrow 16" descr=""/>
            <p:cNvPicPr/>
            <p:nvPr/>
          </p:nvPicPr>
          <p:blipFill>
            <a:blip r:embed="rId5"/>
            <a:stretch/>
          </p:blipFill>
          <p:spPr>
            <a:xfrm>
              <a:off x="1152360" y="3730680"/>
              <a:ext cx="7430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1406520" y="3857760"/>
              <a:ext cx="243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22" name="Down Arrow 17"/>
          <p:cNvGrpSpPr/>
          <p:nvPr/>
        </p:nvGrpSpPr>
        <p:grpSpPr>
          <a:xfrm>
            <a:off x="6797520" y="3730680"/>
            <a:ext cx="743040" cy="1012680"/>
            <a:chOff x="6797520" y="3730680"/>
            <a:chExt cx="743040" cy="1012680"/>
          </a:xfrm>
        </p:grpSpPr>
        <p:pic>
          <p:nvPicPr>
            <p:cNvPr id="1323" name="Down Arrow 17" descr=""/>
            <p:cNvPicPr/>
            <p:nvPr/>
          </p:nvPicPr>
          <p:blipFill>
            <a:blip r:embed="rId6"/>
            <a:stretch/>
          </p:blipFill>
          <p:spPr>
            <a:xfrm>
              <a:off x="6797520" y="3730680"/>
              <a:ext cx="7430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7050240" y="3857760"/>
              <a:ext cx="242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ДИЈАГНОСТИЧКА ПРОЦЕ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7" name="Rectangle 3"/>
          <p:cNvSpPr/>
          <p:nvPr/>
        </p:nvSpPr>
        <p:spPr>
          <a:xfrm>
            <a:off x="928800" y="1000080"/>
            <a:ext cx="750096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Сумња на високо ризичну ПТЕ  тј. </a:t>
            </a:r>
            <a:r>
              <a:rPr b="1" lang="sr-CS" sz="2000" spc="-1" strike="noStrike">
                <a:solidFill>
                  <a:srgbClr val="292929"/>
                </a:solidFill>
                <a:latin typeface="Calibri"/>
              </a:rPr>
              <a:t>с</a:t>
            </a: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а шоком или хипотензијом 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28" name="Rectangle 4"/>
          <p:cNvSpPr/>
          <p:nvPr/>
        </p:nvSpPr>
        <p:spPr>
          <a:xfrm>
            <a:off x="3214800" y="1714680"/>
            <a:ext cx="2357280" cy="785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МСЦТ тренутно 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           </a:t>
            </a: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доступан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29" name="Flowchart: Decision 5"/>
          <p:cNvSpPr/>
          <p:nvPr/>
        </p:nvSpPr>
        <p:spPr>
          <a:xfrm>
            <a:off x="1285920" y="1714680"/>
            <a:ext cx="1000080" cy="612720"/>
          </a:xfrm>
          <a:prstGeom prst="flowChartDecision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НЕ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0" name="Flowchart: Decision 6"/>
          <p:cNvSpPr/>
          <p:nvPr/>
        </p:nvSpPr>
        <p:spPr>
          <a:xfrm>
            <a:off x="6500880" y="1714680"/>
            <a:ext cx="1000080" cy="612720"/>
          </a:xfrm>
          <a:prstGeom prst="flowChartDecision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1" name="Rectangle 7"/>
          <p:cNvSpPr/>
          <p:nvPr/>
        </p:nvSpPr>
        <p:spPr>
          <a:xfrm>
            <a:off x="714240" y="2786040"/>
            <a:ext cx="235764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УЗ срца: оптерећење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        </a:t>
            </a: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десне коморе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2" name="Flowchart: Decision 8"/>
          <p:cNvSpPr/>
          <p:nvPr/>
        </p:nvSpPr>
        <p:spPr>
          <a:xfrm>
            <a:off x="500040" y="4214880"/>
            <a:ext cx="1000080" cy="612720"/>
          </a:xfrm>
          <a:prstGeom prst="flowChartDecision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НЕ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3" name="Flowchart: Decision 9"/>
          <p:cNvSpPr/>
          <p:nvPr/>
        </p:nvSpPr>
        <p:spPr>
          <a:xfrm>
            <a:off x="2071800" y="4214880"/>
            <a:ext cx="1000080" cy="612720"/>
          </a:xfrm>
          <a:prstGeom prst="flowChartDecision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292929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4" name="Rectangle 10"/>
          <p:cNvSpPr/>
          <p:nvPr/>
        </p:nvSpPr>
        <p:spPr>
          <a:xfrm>
            <a:off x="0" y="5429160"/>
            <a:ext cx="207180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Трагати за др.узроцим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Тромболиза и емболект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нису оправдан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5" name="Rectangle 11"/>
          <p:cNvSpPr/>
          <p:nvPr/>
        </p:nvSpPr>
        <p:spPr>
          <a:xfrm>
            <a:off x="2286000" y="5429160"/>
            <a:ext cx="214308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Друге дијагностичке методе недоступне или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б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олесник нестабилан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36" name="Rectangle 12"/>
          <p:cNvSpPr/>
          <p:nvPr/>
        </p:nvSpPr>
        <p:spPr>
          <a:xfrm>
            <a:off x="3571920" y="4071960"/>
            <a:ext cx="228600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Болесник стабилизован  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         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и ЦТ доступан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337" name="Down Arrow 13"/>
          <p:cNvGrpSpPr/>
          <p:nvPr/>
        </p:nvGrpSpPr>
        <p:grpSpPr>
          <a:xfrm>
            <a:off x="4022640" y="1305000"/>
            <a:ext cx="720720" cy="504720"/>
            <a:chOff x="4022640" y="1305000"/>
            <a:chExt cx="720720" cy="504720"/>
          </a:xfrm>
        </p:grpSpPr>
        <p:pic>
          <p:nvPicPr>
            <p:cNvPr id="1338" name="Down Arrow 13" descr=""/>
            <p:cNvPicPr/>
            <p:nvPr/>
          </p:nvPicPr>
          <p:blipFill>
            <a:blip r:embed="rId1"/>
            <a:stretch/>
          </p:blipFill>
          <p:spPr>
            <a:xfrm>
              <a:off x="4022640" y="1305000"/>
              <a:ext cx="720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4264200" y="1428840"/>
              <a:ext cx="24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40" name="Right Arrow 14"/>
          <p:cNvGrpSpPr/>
          <p:nvPr/>
        </p:nvGrpSpPr>
        <p:grpSpPr>
          <a:xfrm>
            <a:off x="5522760" y="1663560"/>
            <a:ext cx="927360" cy="719280"/>
            <a:chOff x="5522760" y="1663560"/>
            <a:chExt cx="927360" cy="719280"/>
          </a:xfrm>
        </p:grpSpPr>
        <p:pic>
          <p:nvPicPr>
            <p:cNvPr id="1341" name="Right Arrow 14" descr=""/>
            <p:cNvPicPr/>
            <p:nvPr/>
          </p:nvPicPr>
          <p:blipFill>
            <a:blip r:embed="rId2"/>
            <a:stretch/>
          </p:blipFill>
          <p:spPr>
            <a:xfrm>
              <a:off x="5522760" y="1663560"/>
              <a:ext cx="927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5643720" y="1906560"/>
              <a:ext cx="571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pic>
        <p:nvPicPr>
          <p:cNvPr id="1343" name="Right Arrow 15" descr=""/>
          <p:cNvPicPr/>
          <p:nvPr/>
        </p:nvPicPr>
        <p:blipFill>
          <a:blip r:embed="rId3"/>
          <a:stretch/>
        </p:blipFill>
        <p:spPr>
          <a:xfrm>
            <a:off x="2309760" y="1663560"/>
            <a:ext cx="927000" cy="719280"/>
          </a:xfrm>
          <a:prstGeom prst="rect">
            <a:avLst/>
          </a:prstGeom>
          <a:ln w="0">
            <a:noFill/>
          </a:ln>
        </p:spPr>
      </p:pic>
      <p:grpSp>
        <p:nvGrpSpPr>
          <p:cNvPr id="1344" name="Down Arrow 16"/>
          <p:cNvGrpSpPr/>
          <p:nvPr/>
        </p:nvGrpSpPr>
        <p:grpSpPr>
          <a:xfrm>
            <a:off x="1378080" y="2305080"/>
            <a:ext cx="725400" cy="571320"/>
            <a:chOff x="1378080" y="2305080"/>
            <a:chExt cx="725400" cy="571320"/>
          </a:xfrm>
        </p:grpSpPr>
        <p:pic>
          <p:nvPicPr>
            <p:cNvPr id="1345" name="Down Arrow 16" descr=""/>
            <p:cNvPicPr/>
            <p:nvPr/>
          </p:nvPicPr>
          <p:blipFill>
            <a:blip r:embed="rId4"/>
            <a:stretch/>
          </p:blipFill>
          <p:spPr>
            <a:xfrm>
              <a:off x="1378080" y="2305080"/>
              <a:ext cx="7254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1620720" y="2428920"/>
              <a:ext cx="243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47" name="Down Arrow 17"/>
          <p:cNvGrpSpPr/>
          <p:nvPr/>
        </p:nvGrpSpPr>
        <p:grpSpPr>
          <a:xfrm>
            <a:off x="665280" y="3524400"/>
            <a:ext cx="590400" cy="736560"/>
            <a:chOff x="665280" y="3524400"/>
            <a:chExt cx="590400" cy="736560"/>
          </a:xfrm>
        </p:grpSpPr>
        <p:pic>
          <p:nvPicPr>
            <p:cNvPr id="1348" name="Down Arrow 17" descr=""/>
            <p:cNvPicPr/>
            <p:nvPr/>
          </p:nvPicPr>
          <p:blipFill>
            <a:blip r:embed="rId5"/>
            <a:stretch/>
          </p:blipFill>
          <p:spPr>
            <a:xfrm>
              <a:off x="665280" y="3524400"/>
              <a:ext cx="590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874800" y="3643200"/>
              <a:ext cx="179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50" name="Down Arrow 18"/>
          <p:cNvGrpSpPr/>
          <p:nvPr/>
        </p:nvGrpSpPr>
        <p:grpSpPr>
          <a:xfrm>
            <a:off x="2236680" y="3524400"/>
            <a:ext cx="592200" cy="736560"/>
            <a:chOff x="2236680" y="3524400"/>
            <a:chExt cx="592200" cy="736560"/>
          </a:xfrm>
        </p:grpSpPr>
        <p:pic>
          <p:nvPicPr>
            <p:cNvPr id="1351" name="Down Arrow 18" descr=""/>
            <p:cNvPicPr/>
            <p:nvPr/>
          </p:nvPicPr>
          <p:blipFill>
            <a:blip r:embed="rId6"/>
            <a:stretch/>
          </p:blipFill>
          <p:spPr>
            <a:xfrm>
              <a:off x="2236680" y="3524400"/>
              <a:ext cx="5922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"/>
            <p:cNvSpPr/>
            <p:nvPr/>
          </p:nvSpPr>
          <p:spPr>
            <a:xfrm>
              <a:off x="2446200" y="3643200"/>
              <a:ext cx="179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53" name="Rectangle 19"/>
          <p:cNvGrpSpPr/>
          <p:nvPr/>
        </p:nvGrpSpPr>
        <p:grpSpPr>
          <a:xfrm>
            <a:off x="878040" y="3524400"/>
            <a:ext cx="1809720" cy="304560"/>
            <a:chOff x="878040" y="3524400"/>
            <a:chExt cx="1809720" cy="304560"/>
          </a:xfrm>
        </p:grpSpPr>
        <p:pic>
          <p:nvPicPr>
            <p:cNvPr id="1354" name="Rectangle 19" descr=""/>
            <p:cNvPicPr/>
            <p:nvPr/>
          </p:nvPicPr>
          <p:blipFill>
            <a:blip r:embed="rId7"/>
            <a:stretch/>
          </p:blipFill>
          <p:spPr>
            <a:xfrm>
              <a:off x="878040" y="3524400"/>
              <a:ext cx="1809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1000080" y="3643200"/>
              <a:ext cx="1571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56" name="Down Arrow 20"/>
          <p:cNvGrpSpPr/>
          <p:nvPr/>
        </p:nvGrpSpPr>
        <p:grpSpPr>
          <a:xfrm>
            <a:off x="590400" y="4809960"/>
            <a:ext cx="725760" cy="573120"/>
            <a:chOff x="590400" y="4809960"/>
            <a:chExt cx="725760" cy="573120"/>
          </a:xfrm>
        </p:grpSpPr>
        <p:pic>
          <p:nvPicPr>
            <p:cNvPr id="1357" name="Down Arrow 20" descr=""/>
            <p:cNvPicPr/>
            <p:nvPr/>
          </p:nvPicPr>
          <p:blipFill>
            <a:blip r:embed="rId8"/>
            <a:stretch/>
          </p:blipFill>
          <p:spPr>
            <a:xfrm>
              <a:off x="590400" y="4809960"/>
              <a:ext cx="7257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835200" y="4929120"/>
              <a:ext cx="242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59" name="Down Arrow 21"/>
          <p:cNvGrpSpPr/>
          <p:nvPr/>
        </p:nvGrpSpPr>
        <p:grpSpPr>
          <a:xfrm>
            <a:off x="2236680" y="4809960"/>
            <a:ext cx="719280" cy="573120"/>
            <a:chOff x="2236680" y="4809960"/>
            <a:chExt cx="719280" cy="573120"/>
          </a:xfrm>
        </p:grpSpPr>
        <p:pic>
          <p:nvPicPr>
            <p:cNvPr id="1360" name="Down Arrow 21" descr=""/>
            <p:cNvPicPr/>
            <p:nvPr/>
          </p:nvPicPr>
          <p:blipFill>
            <a:blip r:embed="rId9"/>
            <a:stretch/>
          </p:blipFill>
          <p:spPr>
            <a:xfrm>
              <a:off x="2236680" y="4809960"/>
              <a:ext cx="7192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1" name=""/>
            <p:cNvSpPr/>
            <p:nvPr/>
          </p:nvSpPr>
          <p:spPr>
            <a:xfrm>
              <a:off x="2478240" y="4929120"/>
              <a:ext cx="242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62" name="Right Arrow 24"/>
          <p:cNvGrpSpPr/>
          <p:nvPr/>
        </p:nvGrpSpPr>
        <p:grpSpPr>
          <a:xfrm>
            <a:off x="3090960" y="6235560"/>
            <a:ext cx="1670040" cy="525600"/>
            <a:chOff x="3090960" y="6235560"/>
            <a:chExt cx="1670040" cy="525600"/>
          </a:xfrm>
        </p:grpSpPr>
        <p:pic>
          <p:nvPicPr>
            <p:cNvPr id="1363" name="Right Arrow 24" descr=""/>
            <p:cNvPicPr/>
            <p:nvPr/>
          </p:nvPicPr>
          <p:blipFill>
            <a:blip r:embed="rId10"/>
            <a:stretch/>
          </p:blipFill>
          <p:spPr>
            <a:xfrm>
              <a:off x="3090960" y="6235560"/>
              <a:ext cx="167004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4" name=""/>
            <p:cNvSpPr/>
            <p:nvPr/>
          </p:nvSpPr>
          <p:spPr>
            <a:xfrm>
              <a:off x="3214800" y="6429240"/>
              <a:ext cx="1357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365" name="Rectangle 25"/>
          <p:cNvSpPr/>
          <p:nvPr/>
        </p:nvSpPr>
        <p:spPr>
          <a:xfrm>
            <a:off x="7000920" y="6072120"/>
            <a:ext cx="214308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Трагати за др.узроцим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Тромболиза и емболект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нису оправдан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66" name="Rectangle 26"/>
          <p:cNvSpPr/>
          <p:nvPr/>
        </p:nvSpPr>
        <p:spPr>
          <a:xfrm>
            <a:off x="4714920" y="6072120"/>
            <a:ext cx="2143080" cy="78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Специфично лечење оправдано. Размотрити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т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ромболизу/емболект.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367" name="Rectangle 27"/>
          <p:cNvGrpSpPr/>
          <p:nvPr/>
        </p:nvGrpSpPr>
        <p:grpSpPr>
          <a:xfrm>
            <a:off x="3090960" y="6095880"/>
            <a:ext cx="384120" cy="517680"/>
            <a:chOff x="3090960" y="6095880"/>
            <a:chExt cx="384120" cy="517680"/>
          </a:xfrm>
        </p:grpSpPr>
        <p:pic>
          <p:nvPicPr>
            <p:cNvPr id="1368" name="Rectangle 27" descr=""/>
            <p:cNvPicPr/>
            <p:nvPr/>
          </p:nvPicPr>
          <p:blipFill>
            <a:blip r:embed="rId11"/>
            <a:stretch/>
          </p:blipFill>
          <p:spPr>
            <a:xfrm>
              <a:off x="3090960" y="6095880"/>
              <a:ext cx="384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"/>
            <p:cNvSpPr/>
            <p:nvPr/>
          </p:nvSpPr>
          <p:spPr>
            <a:xfrm>
              <a:off x="3214800" y="6215040"/>
              <a:ext cx="142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70" name="Right Arrow 28"/>
          <p:cNvGrpSpPr/>
          <p:nvPr/>
        </p:nvGrpSpPr>
        <p:grpSpPr>
          <a:xfrm>
            <a:off x="3024360" y="4164120"/>
            <a:ext cx="590400" cy="652320"/>
            <a:chOff x="3024360" y="4164120"/>
            <a:chExt cx="590400" cy="652320"/>
          </a:xfrm>
        </p:grpSpPr>
        <p:pic>
          <p:nvPicPr>
            <p:cNvPr id="1371" name="Right Arrow 28" descr=""/>
            <p:cNvPicPr/>
            <p:nvPr/>
          </p:nvPicPr>
          <p:blipFill>
            <a:blip r:embed="rId12"/>
            <a:stretch/>
          </p:blipFill>
          <p:spPr>
            <a:xfrm>
              <a:off x="3024360" y="4164120"/>
              <a:ext cx="590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>
              <a:off x="3143160" y="4389480"/>
              <a:ext cx="2682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373" name="Oval 30"/>
          <p:cNvSpPr/>
          <p:nvPr/>
        </p:nvSpPr>
        <p:spPr>
          <a:xfrm>
            <a:off x="6643800" y="4071960"/>
            <a:ext cx="928440" cy="642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</a:rPr>
              <a:t>ЦТ</a:t>
            </a:r>
            <a:endParaRPr b="0" lang="en-US" sz="24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374" name="Down Arrow 32"/>
          <p:cNvGrpSpPr/>
          <p:nvPr/>
        </p:nvGrpSpPr>
        <p:grpSpPr>
          <a:xfrm>
            <a:off x="6662880" y="2378160"/>
            <a:ext cx="725400" cy="1450800"/>
            <a:chOff x="6662880" y="2378160"/>
            <a:chExt cx="725400" cy="1450800"/>
          </a:xfrm>
        </p:grpSpPr>
        <p:pic>
          <p:nvPicPr>
            <p:cNvPr id="1375" name="Down Arrow 32" descr=""/>
            <p:cNvPicPr/>
            <p:nvPr/>
          </p:nvPicPr>
          <p:blipFill>
            <a:blip r:embed="rId13"/>
            <a:stretch/>
          </p:blipFill>
          <p:spPr>
            <a:xfrm>
              <a:off x="6662880" y="2378160"/>
              <a:ext cx="72540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6907320" y="2500200"/>
              <a:ext cx="24264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77" name="Right Arrow 33"/>
          <p:cNvGrpSpPr/>
          <p:nvPr/>
        </p:nvGrpSpPr>
        <p:grpSpPr>
          <a:xfrm>
            <a:off x="5877000" y="4164120"/>
            <a:ext cx="809640" cy="652320"/>
            <a:chOff x="5877000" y="4164120"/>
            <a:chExt cx="809640" cy="652320"/>
          </a:xfrm>
        </p:grpSpPr>
        <p:pic>
          <p:nvPicPr>
            <p:cNvPr id="1378" name="Right Arrow 33" descr=""/>
            <p:cNvPicPr/>
            <p:nvPr/>
          </p:nvPicPr>
          <p:blipFill>
            <a:blip r:embed="rId14"/>
            <a:stretch/>
          </p:blipFill>
          <p:spPr>
            <a:xfrm>
              <a:off x="5877000" y="4164120"/>
              <a:ext cx="8096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6000840" y="4389480"/>
              <a:ext cx="468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80" name="Down Arrow 34"/>
          <p:cNvGrpSpPr/>
          <p:nvPr/>
        </p:nvGrpSpPr>
        <p:grpSpPr>
          <a:xfrm>
            <a:off x="6022800" y="4737240"/>
            <a:ext cx="590760" cy="736560"/>
            <a:chOff x="6022800" y="4737240"/>
            <a:chExt cx="590760" cy="736560"/>
          </a:xfrm>
        </p:grpSpPr>
        <p:pic>
          <p:nvPicPr>
            <p:cNvPr id="1381" name="Down Arrow 34" descr=""/>
            <p:cNvPicPr/>
            <p:nvPr/>
          </p:nvPicPr>
          <p:blipFill>
            <a:blip r:embed="rId15"/>
            <a:stretch/>
          </p:blipFill>
          <p:spPr>
            <a:xfrm>
              <a:off x="6022800" y="4737240"/>
              <a:ext cx="5907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6232680" y="4857840"/>
              <a:ext cx="179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83" name="Down Arrow 35"/>
          <p:cNvGrpSpPr/>
          <p:nvPr/>
        </p:nvGrpSpPr>
        <p:grpSpPr>
          <a:xfrm>
            <a:off x="7736040" y="4737240"/>
            <a:ext cx="596880" cy="736560"/>
            <a:chOff x="7736040" y="4737240"/>
            <a:chExt cx="596880" cy="736560"/>
          </a:xfrm>
        </p:grpSpPr>
        <p:pic>
          <p:nvPicPr>
            <p:cNvPr id="1384" name="Down Arrow 35" descr=""/>
            <p:cNvPicPr/>
            <p:nvPr/>
          </p:nvPicPr>
          <p:blipFill>
            <a:blip r:embed="rId16"/>
            <a:stretch/>
          </p:blipFill>
          <p:spPr>
            <a:xfrm>
              <a:off x="7736040" y="4737240"/>
              <a:ext cx="5968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7947000" y="4857840"/>
              <a:ext cx="179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86" name="Rectangle 36"/>
          <p:cNvGrpSpPr/>
          <p:nvPr/>
        </p:nvGrpSpPr>
        <p:grpSpPr>
          <a:xfrm>
            <a:off x="6095880" y="4664160"/>
            <a:ext cx="2163960" cy="309600"/>
            <a:chOff x="6095880" y="4664160"/>
            <a:chExt cx="2163960" cy="309600"/>
          </a:xfrm>
        </p:grpSpPr>
        <p:pic>
          <p:nvPicPr>
            <p:cNvPr id="1387" name="Rectangle 36" descr=""/>
            <p:cNvPicPr/>
            <p:nvPr/>
          </p:nvPicPr>
          <p:blipFill>
            <a:blip r:embed="rId17"/>
            <a:stretch/>
          </p:blipFill>
          <p:spPr>
            <a:xfrm>
              <a:off x="6095880" y="4664160"/>
              <a:ext cx="216396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6215040" y="4786200"/>
              <a:ext cx="1928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389" name="Rectangle 37"/>
          <p:cNvSpPr/>
          <p:nvPr/>
        </p:nvSpPr>
        <p:spPr>
          <a:xfrm>
            <a:off x="5429160" y="5429160"/>
            <a:ext cx="1214640" cy="357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Позитиван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390" name="Rectangle 38"/>
          <p:cNvSpPr/>
          <p:nvPr/>
        </p:nvSpPr>
        <p:spPr>
          <a:xfrm>
            <a:off x="7572240" y="5429160"/>
            <a:ext cx="1143000" cy="357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Негативан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391" name="Down Arrow 39"/>
          <p:cNvGrpSpPr/>
          <p:nvPr/>
        </p:nvGrpSpPr>
        <p:grpSpPr>
          <a:xfrm>
            <a:off x="5735520" y="5662440"/>
            <a:ext cx="598680" cy="525600"/>
            <a:chOff x="5735520" y="5662440"/>
            <a:chExt cx="598680" cy="525600"/>
          </a:xfrm>
        </p:grpSpPr>
        <p:pic>
          <p:nvPicPr>
            <p:cNvPr id="1392" name="Down Arrow 39" descr=""/>
            <p:cNvPicPr/>
            <p:nvPr/>
          </p:nvPicPr>
          <p:blipFill>
            <a:blip r:embed="rId18"/>
            <a:stretch/>
          </p:blipFill>
          <p:spPr>
            <a:xfrm>
              <a:off x="5735520" y="5662440"/>
              <a:ext cx="5986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"/>
            <p:cNvSpPr/>
            <p:nvPr/>
          </p:nvSpPr>
          <p:spPr>
            <a:xfrm>
              <a:off x="5946840" y="5786280"/>
              <a:ext cx="1792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394" name="Down Arrow 40"/>
          <p:cNvGrpSpPr/>
          <p:nvPr/>
        </p:nvGrpSpPr>
        <p:grpSpPr>
          <a:xfrm>
            <a:off x="7808760" y="5662440"/>
            <a:ext cx="592200" cy="525600"/>
            <a:chOff x="7808760" y="5662440"/>
            <a:chExt cx="592200" cy="525600"/>
          </a:xfrm>
        </p:grpSpPr>
        <p:pic>
          <p:nvPicPr>
            <p:cNvPr id="1395" name="Down Arrow 40" descr=""/>
            <p:cNvPicPr/>
            <p:nvPr/>
          </p:nvPicPr>
          <p:blipFill>
            <a:blip r:embed="rId19"/>
            <a:stretch/>
          </p:blipFill>
          <p:spPr>
            <a:xfrm>
              <a:off x="7808760" y="5662440"/>
              <a:ext cx="59220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6" name=""/>
            <p:cNvSpPr/>
            <p:nvPr/>
          </p:nvSpPr>
          <p:spPr>
            <a:xfrm>
              <a:off x="8018640" y="5786280"/>
              <a:ext cx="1792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ДИЈАГНОСТИЧКА ПРОЦЕ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9" name="Rectangle 3"/>
          <p:cNvSpPr/>
          <p:nvPr/>
        </p:nvSpPr>
        <p:spPr>
          <a:xfrm>
            <a:off x="785880" y="1000080"/>
            <a:ext cx="785808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Calibri"/>
              </a:rPr>
              <a:t>Сумња на ПТЕ која није високог ризика  тј.без шока или хипотензије 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3143160" y="1714680"/>
            <a:ext cx="2500560" cy="785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92929"/>
                </a:solidFill>
                <a:latin typeface="Calibri"/>
              </a:rPr>
              <a:t>  </a:t>
            </a:r>
            <a:r>
              <a:rPr b="1" lang="sr-RS" sz="2000" spc="-1" strike="noStrike">
                <a:solidFill>
                  <a:srgbClr val="292929"/>
                </a:solidFill>
                <a:latin typeface="Calibri"/>
              </a:rPr>
              <a:t>Процена клиничке   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92929"/>
                </a:solidFill>
                <a:latin typeface="Calibri"/>
              </a:rPr>
              <a:t>        </a:t>
            </a:r>
            <a:r>
              <a:rPr b="1" lang="sr-RS" sz="2000" spc="-1" strike="noStrike">
                <a:solidFill>
                  <a:srgbClr val="292929"/>
                </a:solidFill>
                <a:latin typeface="Calibri"/>
              </a:rPr>
              <a:t>вероватноће</a:t>
            </a:r>
            <a:endParaRPr b="0" lang="en-US" sz="20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01" name="Rectangle 7"/>
          <p:cNvSpPr/>
          <p:nvPr/>
        </p:nvSpPr>
        <p:spPr>
          <a:xfrm>
            <a:off x="285840" y="2428920"/>
            <a:ext cx="2286000" cy="571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Н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иска или средња вер.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и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ли ПТЕ није вероватна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02" name="Rectangle 10"/>
          <p:cNvSpPr/>
          <p:nvPr/>
        </p:nvSpPr>
        <p:spPr>
          <a:xfrm>
            <a:off x="214200" y="4429080"/>
            <a:ext cx="1143000" cy="500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orbel"/>
              </a:rPr>
              <a:t>Н</a:t>
            </a:r>
            <a:r>
              <a:rPr b="1" lang="sr-RS" sz="1400" spc="-1" strike="noStrike">
                <a:solidFill>
                  <a:srgbClr val="292929"/>
                </a:solidFill>
                <a:latin typeface="Corbel"/>
              </a:rPr>
              <a:t>егативан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orbel"/>
              </a:rPr>
              <a:t>б</a:t>
            </a:r>
            <a:r>
              <a:rPr b="1" lang="sr-RS" sz="1400" spc="-1" strike="noStrike">
                <a:solidFill>
                  <a:srgbClr val="292929"/>
                </a:solidFill>
                <a:latin typeface="Corbel"/>
              </a:rPr>
              <a:t>ез  лечењ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03" name="Rectangle 11"/>
          <p:cNvSpPr/>
          <p:nvPr/>
        </p:nvSpPr>
        <p:spPr>
          <a:xfrm>
            <a:off x="1071720" y="5500800"/>
            <a:ext cx="1285560" cy="285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   </a:t>
            </a: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Н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егативан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04" name="Rectangle 12"/>
          <p:cNvSpPr/>
          <p:nvPr/>
        </p:nvSpPr>
        <p:spPr>
          <a:xfrm>
            <a:off x="6429240" y="3714840"/>
            <a:ext cx="1571760" cy="4284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       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МСЦТ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05" name="Down Arrow 13"/>
          <p:cNvGrpSpPr/>
          <p:nvPr/>
        </p:nvGrpSpPr>
        <p:grpSpPr>
          <a:xfrm>
            <a:off x="4022640" y="1305000"/>
            <a:ext cx="720720" cy="504720"/>
            <a:chOff x="4022640" y="1305000"/>
            <a:chExt cx="720720" cy="504720"/>
          </a:xfrm>
        </p:grpSpPr>
        <p:pic>
          <p:nvPicPr>
            <p:cNvPr id="1406" name="Down Arrow 13" descr=""/>
            <p:cNvPicPr/>
            <p:nvPr/>
          </p:nvPicPr>
          <p:blipFill>
            <a:blip r:embed="rId1"/>
            <a:stretch/>
          </p:blipFill>
          <p:spPr>
            <a:xfrm>
              <a:off x="4022640" y="1305000"/>
              <a:ext cx="720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4264200" y="1428840"/>
              <a:ext cx="24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08" name="Down Arrow 17"/>
          <p:cNvGrpSpPr/>
          <p:nvPr/>
        </p:nvGrpSpPr>
        <p:grpSpPr>
          <a:xfrm>
            <a:off x="1017720" y="2951280"/>
            <a:ext cx="598320" cy="663480"/>
            <a:chOff x="1017720" y="2951280"/>
            <a:chExt cx="598320" cy="663480"/>
          </a:xfrm>
        </p:grpSpPr>
        <p:pic>
          <p:nvPicPr>
            <p:cNvPr id="1409" name="Down Arrow 17" descr=""/>
            <p:cNvPicPr/>
            <p:nvPr/>
          </p:nvPicPr>
          <p:blipFill>
            <a:blip r:embed="rId2"/>
            <a:stretch/>
          </p:blipFill>
          <p:spPr>
            <a:xfrm>
              <a:off x="1017720" y="2951280"/>
              <a:ext cx="5983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231920" y="3071880"/>
              <a:ext cx="179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11" name="Rectangle 37"/>
          <p:cNvSpPr/>
          <p:nvPr/>
        </p:nvSpPr>
        <p:spPr>
          <a:xfrm>
            <a:off x="5286240" y="4714920"/>
            <a:ext cx="1643040" cy="857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 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Нема ПТЕ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б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ез лечења или даља обрада *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12" name="Rectangle 41"/>
          <p:cNvGrpSpPr/>
          <p:nvPr/>
        </p:nvGrpSpPr>
        <p:grpSpPr>
          <a:xfrm>
            <a:off x="1523880" y="1805040"/>
            <a:ext cx="1737000" cy="457200"/>
            <a:chOff x="1523880" y="1805040"/>
            <a:chExt cx="1737000" cy="457200"/>
          </a:xfrm>
        </p:grpSpPr>
        <p:pic>
          <p:nvPicPr>
            <p:cNvPr id="1413" name="Rectangle 41" descr=""/>
            <p:cNvPicPr/>
            <p:nvPr/>
          </p:nvPicPr>
          <p:blipFill>
            <a:blip r:embed="rId3"/>
            <a:stretch/>
          </p:blipFill>
          <p:spPr>
            <a:xfrm>
              <a:off x="1523880" y="1805040"/>
              <a:ext cx="1737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"/>
            <p:cNvSpPr/>
            <p:nvPr/>
          </p:nvSpPr>
          <p:spPr>
            <a:xfrm>
              <a:off x="1643040" y="1928880"/>
              <a:ext cx="150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15" name="Rectangle 42"/>
          <p:cNvSpPr/>
          <p:nvPr/>
        </p:nvSpPr>
        <p:spPr>
          <a:xfrm>
            <a:off x="714240" y="3500280"/>
            <a:ext cx="1214640" cy="357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Д димер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16" name="Rectangle 43"/>
          <p:cNvGrpSpPr/>
          <p:nvPr/>
        </p:nvGrpSpPr>
        <p:grpSpPr>
          <a:xfrm>
            <a:off x="5522760" y="1805040"/>
            <a:ext cx="1811520" cy="457200"/>
            <a:chOff x="5522760" y="1805040"/>
            <a:chExt cx="1811520" cy="457200"/>
          </a:xfrm>
        </p:grpSpPr>
        <p:pic>
          <p:nvPicPr>
            <p:cNvPr id="1417" name="Rectangle 43" descr=""/>
            <p:cNvPicPr/>
            <p:nvPr/>
          </p:nvPicPr>
          <p:blipFill>
            <a:blip r:embed="rId4"/>
            <a:stretch/>
          </p:blipFill>
          <p:spPr>
            <a:xfrm>
              <a:off x="5522760" y="1805040"/>
              <a:ext cx="1811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5643720" y="1928880"/>
              <a:ext cx="1571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19" name="Down Arrow 44"/>
          <p:cNvGrpSpPr/>
          <p:nvPr/>
        </p:nvGrpSpPr>
        <p:grpSpPr>
          <a:xfrm>
            <a:off x="6735600" y="1805040"/>
            <a:ext cx="725760" cy="736560"/>
            <a:chOff x="6735600" y="1805040"/>
            <a:chExt cx="725760" cy="736560"/>
          </a:xfrm>
        </p:grpSpPr>
        <p:pic>
          <p:nvPicPr>
            <p:cNvPr id="1420" name="Down Arrow 44" descr=""/>
            <p:cNvPicPr/>
            <p:nvPr/>
          </p:nvPicPr>
          <p:blipFill>
            <a:blip r:embed="rId5"/>
            <a:stretch/>
          </p:blipFill>
          <p:spPr>
            <a:xfrm>
              <a:off x="6735600" y="1805040"/>
              <a:ext cx="7257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"/>
            <p:cNvSpPr/>
            <p:nvPr/>
          </p:nvSpPr>
          <p:spPr>
            <a:xfrm>
              <a:off x="6978600" y="1928880"/>
              <a:ext cx="2430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22" name="Down Arrow 45"/>
          <p:cNvGrpSpPr/>
          <p:nvPr/>
        </p:nvGrpSpPr>
        <p:grpSpPr>
          <a:xfrm>
            <a:off x="1378080" y="1805040"/>
            <a:ext cx="725400" cy="669960"/>
            <a:chOff x="1378080" y="1805040"/>
            <a:chExt cx="725400" cy="669960"/>
          </a:xfrm>
        </p:grpSpPr>
        <p:pic>
          <p:nvPicPr>
            <p:cNvPr id="1423" name="Down Arrow 45" descr=""/>
            <p:cNvPicPr/>
            <p:nvPr/>
          </p:nvPicPr>
          <p:blipFill>
            <a:blip r:embed="rId6"/>
            <a:stretch/>
          </p:blipFill>
          <p:spPr>
            <a:xfrm>
              <a:off x="1378080" y="1805040"/>
              <a:ext cx="7254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4" name=""/>
            <p:cNvSpPr/>
            <p:nvPr/>
          </p:nvSpPr>
          <p:spPr>
            <a:xfrm>
              <a:off x="1620720" y="1928880"/>
              <a:ext cx="243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25" name="Down Arrow 47"/>
          <p:cNvGrpSpPr/>
          <p:nvPr/>
        </p:nvGrpSpPr>
        <p:grpSpPr>
          <a:xfrm>
            <a:off x="438120" y="3816360"/>
            <a:ext cx="641520" cy="627120"/>
            <a:chOff x="438120" y="3816360"/>
            <a:chExt cx="641520" cy="627120"/>
          </a:xfrm>
        </p:grpSpPr>
        <p:pic>
          <p:nvPicPr>
            <p:cNvPr id="1426" name="Down Arrow 47" descr=""/>
            <p:cNvPicPr/>
            <p:nvPr/>
          </p:nvPicPr>
          <p:blipFill>
            <a:blip r:embed="rId7"/>
            <a:stretch/>
          </p:blipFill>
          <p:spPr>
            <a:xfrm>
              <a:off x="438120" y="3816360"/>
              <a:ext cx="6415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"/>
            <p:cNvSpPr/>
            <p:nvPr/>
          </p:nvSpPr>
          <p:spPr>
            <a:xfrm rot="2460000">
              <a:off x="653760" y="3978360"/>
              <a:ext cx="242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28" name="Down Arrow 48"/>
          <p:cNvGrpSpPr/>
          <p:nvPr/>
        </p:nvGrpSpPr>
        <p:grpSpPr>
          <a:xfrm>
            <a:off x="1596960" y="3833640"/>
            <a:ext cx="676440" cy="659160"/>
            <a:chOff x="1596960" y="3833640"/>
            <a:chExt cx="676440" cy="659160"/>
          </a:xfrm>
        </p:grpSpPr>
        <p:pic>
          <p:nvPicPr>
            <p:cNvPr id="1429" name="Down Arrow 48" descr=""/>
            <p:cNvPicPr/>
            <p:nvPr/>
          </p:nvPicPr>
          <p:blipFill>
            <a:blip r:embed="rId8"/>
            <a:stretch/>
          </p:blipFill>
          <p:spPr>
            <a:xfrm>
              <a:off x="1596960" y="3833640"/>
              <a:ext cx="676440" cy="6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"/>
            <p:cNvSpPr/>
            <p:nvPr/>
          </p:nvSpPr>
          <p:spPr>
            <a:xfrm rot="18540000">
              <a:off x="1810440" y="3980160"/>
              <a:ext cx="243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31" name="Rectangle 49"/>
          <p:cNvSpPr/>
          <p:nvPr/>
        </p:nvSpPr>
        <p:spPr>
          <a:xfrm>
            <a:off x="1928880" y="4429080"/>
            <a:ext cx="1285920" cy="5716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orbel"/>
              </a:rPr>
              <a:t>  </a:t>
            </a:r>
            <a:r>
              <a:rPr b="1" lang="sr-CS" sz="1600" spc="-1" strike="noStrike">
                <a:solidFill>
                  <a:srgbClr val="292929"/>
                </a:solidFill>
                <a:latin typeface="Corbel"/>
              </a:rPr>
              <a:t>Позитиван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orbel"/>
              </a:rPr>
              <a:t>       </a:t>
            </a:r>
            <a:r>
              <a:rPr b="1" lang="sr-CS" sz="1600" spc="-1" strike="noStrike">
                <a:solidFill>
                  <a:srgbClr val="292929"/>
                </a:solidFill>
                <a:latin typeface="Corbel"/>
              </a:rPr>
              <a:t>МСЦТ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32" name="Down Arrow 51"/>
          <p:cNvGrpSpPr/>
          <p:nvPr/>
        </p:nvGrpSpPr>
        <p:grpSpPr>
          <a:xfrm>
            <a:off x="1792440" y="4950000"/>
            <a:ext cx="633240" cy="615600"/>
            <a:chOff x="1792440" y="4950000"/>
            <a:chExt cx="633240" cy="615600"/>
          </a:xfrm>
        </p:grpSpPr>
        <p:pic>
          <p:nvPicPr>
            <p:cNvPr id="1433" name="Down Arrow 51" descr=""/>
            <p:cNvPicPr/>
            <p:nvPr/>
          </p:nvPicPr>
          <p:blipFill>
            <a:blip r:embed="rId9"/>
            <a:stretch/>
          </p:blipFill>
          <p:spPr>
            <a:xfrm>
              <a:off x="1792440" y="4950000"/>
              <a:ext cx="633240" cy="6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 rot="2460000">
              <a:off x="2004840" y="5113440"/>
              <a:ext cx="243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35" name="Rectangle 52"/>
          <p:cNvSpPr/>
          <p:nvPr/>
        </p:nvSpPr>
        <p:spPr>
          <a:xfrm>
            <a:off x="1000080" y="6072120"/>
            <a:ext cx="1357200" cy="500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     </a:t>
            </a: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Н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ема ПТ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    </a:t>
            </a: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б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ез лечења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36" name="Down Arrow 53"/>
          <p:cNvGrpSpPr/>
          <p:nvPr/>
        </p:nvGrpSpPr>
        <p:grpSpPr>
          <a:xfrm>
            <a:off x="1450800" y="5735520"/>
            <a:ext cx="590760" cy="452520"/>
            <a:chOff x="1450800" y="5735520"/>
            <a:chExt cx="590760" cy="452520"/>
          </a:xfrm>
        </p:grpSpPr>
        <p:pic>
          <p:nvPicPr>
            <p:cNvPr id="1437" name="Down Arrow 53" descr=""/>
            <p:cNvPicPr/>
            <p:nvPr/>
          </p:nvPicPr>
          <p:blipFill>
            <a:blip r:embed="rId10"/>
            <a:stretch/>
          </p:blipFill>
          <p:spPr>
            <a:xfrm>
              <a:off x="1450800" y="5735520"/>
              <a:ext cx="5907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1660680" y="5857920"/>
              <a:ext cx="1792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39" name="Down Arrow 54"/>
          <p:cNvGrpSpPr/>
          <p:nvPr/>
        </p:nvGrpSpPr>
        <p:grpSpPr>
          <a:xfrm>
            <a:off x="2816280" y="4973760"/>
            <a:ext cx="603360" cy="635040"/>
            <a:chOff x="2816280" y="4973760"/>
            <a:chExt cx="603360" cy="635040"/>
          </a:xfrm>
        </p:grpSpPr>
        <p:pic>
          <p:nvPicPr>
            <p:cNvPr id="1440" name="Down Arrow 54" descr=""/>
            <p:cNvPicPr/>
            <p:nvPr/>
          </p:nvPicPr>
          <p:blipFill>
            <a:blip r:embed="rId11"/>
            <a:stretch/>
          </p:blipFill>
          <p:spPr>
            <a:xfrm>
              <a:off x="2816280" y="4973760"/>
              <a:ext cx="6033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 rot="18540000">
              <a:off x="2995920" y="5137560"/>
              <a:ext cx="2430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42" name="Rectangle 55"/>
          <p:cNvSpPr/>
          <p:nvPr/>
        </p:nvSpPr>
        <p:spPr>
          <a:xfrm>
            <a:off x="2857680" y="5500800"/>
            <a:ext cx="1285560" cy="285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    </a:t>
            </a: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Позитиван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43" name="Down Arrow 56"/>
          <p:cNvGrpSpPr/>
          <p:nvPr/>
        </p:nvGrpSpPr>
        <p:grpSpPr>
          <a:xfrm>
            <a:off x="3236760" y="5735520"/>
            <a:ext cx="592200" cy="452520"/>
            <a:chOff x="3236760" y="5735520"/>
            <a:chExt cx="592200" cy="452520"/>
          </a:xfrm>
        </p:grpSpPr>
        <p:pic>
          <p:nvPicPr>
            <p:cNvPr id="1444" name="Down Arrow 56" descr=""/>
            <p:cNvPicPr/>
            <p:nvPr/>
          </p:nvPicPr>
          <p:blipFill>
            <a:blip r:embed="rId12"/>
            <a:stretch/>
          </p:blipFill>
          <p:spPr>
            <a:xfrm>
              <a:off x="3236760" y="5735520"/>
              <a:ext cx="59220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3446640" y="5857920"/>
              <a:ext cx="1792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46" name="Rectangle 57"/>
          <p:cNvSpPr/>
          <p:nvPr/>
        </p:nvSpPr>
        <p:spPr>
          <a:xfrm>
            <a:off x="2857680" y="6072120"/>
            <a:ext cx="1357200" cy="500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            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ПТ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        </a:t>
            </a:r>
            <a:r>
              <a:rPr b="1" lang="sr-CS" sz="1400" spc="-1" strike="noStrike">
                <a:solidFill>
                  <a:srgbClr val="292929"/>
                </a:solidFill>
                <a:latin typeface="Calibri"/>
              </a:rPr>
              <a:t>Л</a:t>
            </a:r>
            <a:r>
              <a:rPr b="1" lang="sr-RS" sz="1400" spc="-1" strike="noStrike">
                <a:solidFill>
                  <a:srgbClr val="292929"/>
                </a:solidFill>
                <a:latin typeface="Calibri"/>
              </a:rPr>
              <a:t>ечењ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47" name="Rectangle 58"/>
          <p:cNvSpPr/>
          <p:nvPr/>
        </p:nvSpPr>
        <p:spPr>
          <a:xfrm>
            <a:off x="6215040" y="2500200"/>
            <a:ext cx="2286000" cy="5716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Висока клиничка вер.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   </a:t>
            </a: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и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ли вероватна ПТЕ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48" name="Down Arrow 60"/>
          <p:cNvGrpSpPr/>
          <p:nvPr/>
        </p:nvGrpSpPr>
        <p:grpSpPr>
          <a:xfrm>
            <a:off x="5943600" y="4102200"/>
            <a:ext cx="639720" cy="628560"/>
            <a:chOff x="5943600" y="4102200"/>
            <a:chExt cx="639720" cy="628560"/>
          </a:xfrm>
        </p:grpSpPr>
        <p:pic>
          <p:nvPicPr>
            <p:cNvPr id="1449" name="Down Arrow 60" descr=""/>
            <p:cNvPicPr/>
            <p:nvPr/>
          </p:nvPicPr>
          <p:blipFill>
            <a:blip r:embed="rId13"/>
            <a:stretch/>
          </p:blipFill>
          <p:spPr>
            <a:xfrm>
              <a:off x="5943600" y="4102200"/>
              <a:ext cx="6397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"/>
            <p:cNvSpPr/>
            <p:nvPr/>
          </p:nvSpPr>
          <p:spPr>
            <a:xfrm rot="2460000">
              <a:off x="6159240" y="4264200"/>
              <a:ext cx="242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grpSp>
        <p:nvGrpSpPr>
          <p:cNvPr id="1451" name="Down Arrow 61"/>
          <p:cNvGrpSpPr/>
          <p:nvPr/>
        </p:nvGrpSpPr>
        <p:grpSpPr>
          <a:xfrm>
            <a:off x="7815240" y="4114800"/>
            <a:ext cx="669960" cy="665280"/>
            <a:chOff x="7815240" y="4114800"/>
            <a:chExt cx="669960" cy="665280"/>
          </a:xfrm>
        </p:grpSpPr>
        <p:pic>
          <p:nvPicPr>
            <p:cNvPr id="1452" name="Down Arrow 61" descr=""/>
            <p:cNvPicPr/>
            <p:nvPr/>
          </p:nvPicPr>
          <p:blipFill>
            <a:blip r:embed="rId14"/>
            <a:stretch/>
          </p:blipFill>
          <p:spPr>
            <a:xfrm>
              <a:off x="7815240" y="4114800"/>
              <a:ext cx="669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3" name=""/>
            <p:cNvSpPr/>
            <p:nvPr/>
          </p:nvSpPr>
          <p:spPr>
            <a:xfrm rot="18540000">
              <a:off x="8025480" y="4266000"/>
              <a:ext cx="243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54" name="Rectangle 63"/>
          <p:cNvSpPr/>
          <p:nvPr/>
        </p:nvSpPr>
        <p:spPr>
          <a:xfrm>
            <a:off x="7643880" y="4714920"/>
            <a:ext cx="1285920" cy="571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       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ПТЕ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292929"/>
                </a:solidFill>
                <a:latin typeface="Calibri"/>
              </a:rPr>
              <a:t>     </a:t>
            </a:r>
            <a:r>
              <a:rPr b="1" lang="sr-RS" sz="1600" spc="-1" strike="noStrike">
                <a:solidFill>
                  <a:srgbClr val="292929"/>
                </a:solidFill>
                <a:latin typeface="Calibri"/>
              </a:rPr>
              <a:t>Лечење</a:t>
            </a: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Comic Sans MS"/>
            </a:endParaRPr>
          </a:p>
        </p:txBody>
      </p:sp>
      <p:grpSp>
        <p:nvGrpSpPr>
          <p:cNvPr id="1455" name="Down Arrow 64"/>
          <p:cNvGrpSpPr/>
          <p:nvPr/>
        </p:nvGrpSpPr>
        <p:grpSpPr>
          <a:xfrm>
            <a:off x="6950160" y="3090960"/>
            <a:ext cx="596880" cy="669960"/>
            <a:chOff x="6950160" y="3090960"/>
            <a:chExt cx="596880" cy="669960"/>
          </a:xfrm>
        </p:grpSpPr>
        <p:pic>
          <p:nvPicPr>
            <p:cNvPr id="1456" name="Down Arrow 64" descr=""/>
            <p:cNvPicPr/>
            <p:nvPr/>
          </p:nvPicPr>
          <p:blipFill>
            <a:blip r:embed="rId15"/>
            <a:stretch/>
          </p:blipFill>
          <p:spPr>
            <a:xfrm>
              <a:off x="6950160" y="3090960"/>
              <a:ext cx="5968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7161120" y="3214800"/>
              <a:ext cx="1796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Comic Sans MS"/>
              </a:endParaRPr>
            </a:p>
          </p:txBody>
        </p:sp>
      </p:grpSp>
      <p:sp>
        <p:nvSpPr>
          <p:cNvPr id="1458" name="Rectangle 65"/>
          <p:cNvSpPr/>
          <p:nvPr/>
        </p:nvSpPr>
        <p:spPr>
          <a:xfrm>
            <a:off x="4572000" y="59040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*у случају негативног МСЦТ-а код болесника са  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високом клиничком вероватноћом, даље претраге  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требају бити размотрене пре одустајања од  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Comic Sans MS"/>
              </a:rPr>
              <a:t>лечења специфичног за ПТЕ</a:t>
            </a:r>
            <a:endParaRPr b="0" lang="en-US" sz="1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78040" y="32040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гија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8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У</a:t>
            </a:r>
            <a:r>
              <a:rPr b="0" lang="en-US" sz="2800" spc="-1" strike="noStrike">
                <a:solidFill>
                  <a:srgbClr val="666666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25%</a:t>
            </a:r>
            <a:r>
              <a:rPr b="0" lang="en-US" sz="2800" spc="-1" strike="noStrike">
                <a:solidFill>
                  <a:srgbClr val="666666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ТЕ, иницијална  манифестација је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смртни исхо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30%, ПТЕ се јавља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БЕЗ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редиспонирајућег фактор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(неизазвана или идиопатска ПЕ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Corbe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38" name="Picture 5" descr=""/>
          <p:cNvPicPr/>
          <p:nvPr/>
        </p:nvPicPr>
        <p:blipFill>
          <a:blip r:embed="rId1"/>
          <a:stretch/>
        </p:blipFill>
        <p:spPr>
          <a:xfrm>
            <a:off x="5784840" y="1901880"/>
            <a:ext cx="33656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Calibri"/>
              </a:rPr>
              <a:t>Правовременом дијагностиком и лечењем смртност код ПЕ се може умањити за 1-10%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Императив је терапију започети што пр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ПТ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Антикоагулантна терапиј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Тромболитичка терапиј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Емболектомиј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Антикоагулантна терап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  <a:ea typeface="Calibri"/>
              </a:rPr>
              <a:t>први избор у лечењу акутног ВТ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примењује се код свих кардио-пулмонално стабилних болесник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изузетак су само нестабилни болесници који захтевају хитну медицинску и хируршку интервенцију и болесници са великим ризиком од крвављења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ндардна антикоагулантна терапија ј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стовремена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иницијална примена хепарина 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варфарина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хепарин може бити у облику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Calibri"/>
              </a:rPr>
              <a:t>нефракционисаног хепарина (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UFH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Calibri"/>
              </a:rPr>
              <a:t>) или хепарина мале   молекулске тежине (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LMWH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Нефракционисани хепар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68544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претвара АТ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из спорог у брзи инактиватор тромбина (1000-4000 x )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мање инхибира коагулационе факторе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X, X, XI i XII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и превенира конверзију фибриногена у фибрин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не разара већ формиран тромб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почетак антикоагулације након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v.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примене је одмах, а након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sc.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унутар 20-30 минута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полуживот 1,5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,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распон 1-2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46479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ru-RU" sz="1900" spc="-1" strike="noStrike">
                <a:solidFill>
                  <a:srgbClr val="ffff00"/>
                </a:solidFill>
                <a:latin typeface="Calibri"/>
              </a:rPr>
              <a:t>Мере опреза: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fd13b"/>
                </a:solidFill>
                <a:latin typeface="Calibri"/>
              </a:rPr>
              <a:t>мали терапијски прозор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fd13b"/>
                </a:solidFill>
                <a:latin typeface="Calibri"/>
              </a:rPr>
              <a:t>велике варијације односа доза лека/одговор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смањена способност да инактивира тромбин везан за фибрин и фактор Xа везан за активиране тромбоците унутар тромба. Тромб може да расте и током хепаринске терапије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Нежељени ефекти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вављење, тромбоцитопенија и остеопороз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35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Примена нефракционисаног хепар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У облику </a:t>
            </a: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континуиране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инфузије или </a:t>
            </a:r>
            <a:r>
              <a:rPr b="1" lang="ru-RU" sz="1900" spc="-1" strike="noStrike">
                <a:solidFill>
                  <a:srgbClr val="d6ecff"/>
                </a:solidFill>
                <a:latin typeface="Calibri"/>
              </a:rPr>
              <a:t>интермитентне 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интравенске терапије (не препоручује се, већи ризик од крварења) 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  <a:ea typeface="Calibri"/>
              </a:rPr>
              <a:t>Препорука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онтинуирана инфузија одређена према телесној тежин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Дозе хепарина се подешавају тако да се АПТТ одржава 1,5-2,3 пута од контроле (46-70 секунди)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итичан терапијски ниво хепарина (горњу границу нормалног распона АПТТ) треба постићи унутар првих 24 сата лечењ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Хепарин се примењује ≥ 4 до 5 дана, истовремено са фарином, и обуставља се 5. или 6. дана ако је ИНР&gt;2,0 током 2 узастопна дан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Примена нефракционисаног хепар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Потврђена ПТЕ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Calibri"/>
              </a:rPr>
              <a:t>болус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хепарина, 80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U/kg iv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чети </a:t>
            </a:r>
            <a:r>
              <a:rPr b="1" i="1" lang="ru-RU" sz="2600" spc="-1" strike="noStrike">
                <a:solidFill>
                  <a:srgbClr val="ffff00"/>
                </a:solidFill>
                <a:latin typeface="Calibri"/>
              </a:rPr>
              <a:t>инфузију одржавања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са 18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U/kg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/сат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верити АПТТ на 6 сати, да се одржи опсег који одговара терапијском нивоу хепарина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верити број тромбоцита између 3. и 5. дана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очети са варфарином 1. дана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обуставити хепарин после ≥ 4 до 5 дана комбиноване терапије када је ИНР &gt; 2,0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Примена нефракционисаног хепар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685800" y="155736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Calibri"/>
                <a:ea typeface="Calibri"/>
              </a:rPr>
              <a:t>Неопходно је праћење параметара коагулације  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</a:rPr>
              <a:t>АПТТ се одређује након 6 сати од започетог лечења уз корекцију терапије, ако је потребна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</a:rPr>
              <a:t>после сваке корекције дозе АПТТ се одређује након 6 сати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</a:rPr>
              <a:t>у првих 24 сата АПТТ се одређује на 6 сати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Calibri"/>
              </a:rPr>
              <a:t>када су две узастопне вредности АПТТ у терапијском распону, одређује се на 24 сата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Примена нефракционисаног   хепарина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континуирана инфузиј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Calibri"/>
              </a:rPr>
              <a:t>: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корекција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598320" y="2133720"/>
          <a:ext cx="7858440" cy="4206600"/>
        </p:xfrm>
        <a:graphic>
          <a:graphicData uri="http://schemas.openxmlformats.org/drawingml/2006/table">
            <a:tbl>
              <a:tblPr/>
              <a:tblGrid>
                <a:gridCol w="2394000"/>
                <a:gridCol w="5464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sr-Latn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sr-Latn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T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рекција </a:t>
                      </a:r>
                      <a:r>
                        <a:rPr b="1" lang="sr-Latn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v.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дозирањ</a:t>
                      </a:r>
                      <a:r>
                        <a:rPr b="1" lang="sr-Latn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 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фракционисаног хепарина  према вредности </a:t>
                      </a:r>
                      <a:r>
                        <a:rPr b="1" lang="sr-Latn-R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T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2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35 sec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IU/kg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 болусу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ећати доз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/kg/sa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-45 sec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/kg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болусу;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ти дозу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IU/kg/sa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-70 sec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авит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четом инфузијом одржавањ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-90 sec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узиј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и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IU/kg/sa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90 sec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ставити инфузиј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затим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и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/kg/sa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Нежељени ефекти хепар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Масивна крварења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(неоткривени тумори мокраћн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бешике или колона, улкус желуца или дуоденума)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Ризик: старије животно доба, упоредна примена салицилата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Терапија се одмах прекида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d6ecff"/>
                </a:solidFill>
                <a:latin typeface="Calibri"/>
              </a:rPr>
              <a:t>Протамин сулфат 1мг/100јединица хепарина (50мг у току 10-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d6ecff"/>
                </a:solidFill>
                <a:latin typeface="Calibri"/>
              </a:rPr>
              <a:t>30мин споро интравенски)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Мања крварењ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: прекинути примену (елиминација за 2 сата)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Тромбоцитопениј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(мање од 100 000 - прекид)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Остеопороза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Хиперкалиемија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Пролазно повећање трансаминаза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Хепарин мале молекулске тежине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Calibri"/>
              </a:rPr>
              <a:t>(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LMWH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28400" y="157176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4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Dalteparin natrijum 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Fragmin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200 U/kg s.c. jednom dnevno, ili 100 U/kg svakih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12 </a:t>
            </a: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Enoksaparin natrijum</a:t>
            </a:r>
            <a:r>
              <a:rPr b="1" lang="sr-Latn-C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Clexane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1 mg/kg s.c. svakih 12 sati ili 1.5 mg/kg jedno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dnevn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Nadroparin kalcijum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Fraxiparine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85 U/kg s.c. svakih 12 sati ili 170 U/kg jedno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dnevn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2" descr=""/>
          <p:cNvPicPr/>
          <p:nvPr/>
        </p:nvPicPr>
        <p:blipFill>
          <a:blip r:embed="rId1"/>
          <a:stretch/>
        </p:blipFill>
        <p:spPr>
          <a:xfrm>
            <a:off x="237960" y="165240"/>
            <a:ext cx="7553520" cy="126180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 txBox="1"/>
          <p:nvPr/>
        </p:nvSpPr>
        <p:spPr>
          <a:xfrm>
            <a:off x="428400" y="1500120"/>
            <a:ext cx="839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  <a:ea typeface="Calibri"/>
              </a:rPr>
              <a:t>Водећи узрок смрти хоспитализовних болесник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Calibri"/>
              </a:rPr>
              <a:t>10%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болничких  смртних случајев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1% од свих болничких пријема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На првом месту узрока смрти код трудниц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68000" y="-243000"/>
            <a:ext cx="84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Хепарин мале молекулске тежине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Calibri"/>
              </a:rPr>
              <a:t>(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LMWH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Потврђена ПТЕ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дати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MWH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и почети терапију са варфарином 5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g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оверити број тромбоцита изме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đ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у 3. и 5. дана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обуставити терапију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MWH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после 4 до 5 дана комбиноване терапије, када је ИНР &gt; 2,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Предности примене хепарина мале молекулске тежине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  <a:ea typeface="Calibri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LMWH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  <a:ea typeface="Calibri"/>
              </a:rPr>
              <a:t>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Субкутана примена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једанпут или два пута дневно, без потребе за лабораторијским праћењем антикоагулантног одговора или корекције доз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Ређе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проузрокују имуним механизмима посредовану </a:t>
            </a: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тромбоцитопенију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Не повећава број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и активност </a:t>
            </a: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остеокласт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као 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UFH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Бројне студије документују сигурност и ефикасност 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LMWH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у лечењу ДВТ И ПЕ сугеришу његову </a:t>
            </a:r>
            <a:r>
              <a:rPr b="1" lang="ru-RU" sz="2300" spc="-1" strike="noStrike">
                <a:solidFill>
                  <a:srgbClr val="ffff00"/>
                </a:solidFill>
                <a:latin typeface="Calibri"/>
              </a:rPr>
              <a:t>супериорност у односу на </a:t>
            </a:r>
            <a:r>
              <a:rPr b="1" lang="en-US" sz="2300" spc="-1" strike="noStrike">
                <a:solidFill>
                  <a:srgbClr val="ffff00"/>
                </a:solidFill>
                <a:latin typeface="Calibri"/>
              </a:rPr>
              <a:t>UFH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Орални антикоагуанси –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A</a:t>
            </a:r>
            <a:r>
              <a:rPr b="0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нтагонисти витамина К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1. </a:t>
            </a:r>
            <a:r>
              <a:rPr b="1" i="1" lang="sr-CS" sz="2600" spc="-1" strike="noStrike">
                <a:solidFill>
                  <a:srgbClr val="ffff00"/>
                </a:solidFill>
                <a:latin typeface="Calibri"/>
                <a:ea typeface="Calibri"/>
              </a:rPr>
              <a:t>Деривати кумарина (</a:t>
            </a:r>
            <a:r>
              <a:rPr b="1" i="1" lang="it-IT" sz="2600" spc="-1" strike="noStrike">
                <a:solidFill>
                  <a:srgbClr val="ffff00"/>
                </a:solidFill>
                <a:latin typeface="Calibri"/>
                <a:ea typeface="Calibri"/>
              </a:rPr>
              <a:t>warfarin i acenokumarol</a:t>
            </a:r>
            <a:r>
              <a:rPr b="1" i="1" lang="sr-CS" sz="2600" spc="-1" strike="noStrike">
                <a:solidFill>
                  <a:srgbClr val="ffff00"/>
                </a:solidFill>
                <a:latin typeface="Calibri"/>
                <a:ea typeface="Calibri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за дугорочно лечење пацијената обо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елих од ВТЕ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терапија 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арфарином </a:t>
            </a:r>
            <a:r>
              <a:rPr b="1" lang="sr-CS" sz="1700" spc="-1" strike="noStrike">
                <a:solidFill>
                  <a:srgbClr val="ffff00"/>
                </a:solidFill>
                <a:latin typeface="Calibri"/>
              </a:rPr>
              <a:t>почиње уобичајено у року од 24- 72 сата од почетка парентералног третмана хепарином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ff00"/>
                </a:solidFill>
                <a:latin typeface="Calibri"/>
              </a:rPr>
              <a:t>уобичајена почетна доза је 5-10 мг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мање дозе - код старијих пацијената и неухрањених пацијенат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дозе 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sr-CS" sz="1700" spc="-1" strike="noStrike">
                <a:solidFill>
                  <a:srgbClr val="ffffff"/>
                </a:solidFill>
                <a:latin typeface="Calibri"/>
              </a:rPr>
              <a:t>арфарина и њихов мониторинг су усклађене са ИНР вредностима (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контрола ИНР 3. дана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уз подешавање дозе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2</a:t>
            </a:r>
            <a:r>
              <a:rPr b="1" i="1" lang="en-US" sz="26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1" i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Деривати индандиона (фениндион</a:t>
            </a:r>
            <a:r>
              <a:rPr b="1" i="1" lang="en-US" sz="2600" spc="-1" strike="noStrike">
                <a:solidFill>
                  <a:srgbClr val="ffff00"/>
                </a:solidFill>
                <a:latin typeface="Comic Sans MS"/>
              </a:rPr>
              <a:t>)- </a:t>
            </a: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ретко се користе због веће токсичност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ВАРФАР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Дозирање је индивидуалн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омпликације: крвављење, варфарином проузрокована некроза кож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alibri"/>
                <a:ea typeface="Calibri"/>
              </a:rPr>
              <a:t>Контраиндикације</a:t>
            </a:r>
            <a:r>
              <a:rPr b="1" i="1" lang="ru-RU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: прва три месеца трудноће због тератогеног ефект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2" descr=""/>
          <p:cNvPicPr/>
          <p:nvPr/>
        </p:nvPicPr>
        <p:blipFill>
          <a:blip r:embed="rId2"/>
          <a:stretch/>
        </p:blipFill>
        <p:spPr>
          <a:xfrm>
            <a:off x="3430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Интеракције варфар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1493" name=""/>
          <p:cNvGraphicFramePr/>
          <p:nvPr/>
        </p:nvGraphicFramePr>
        <p:xfrm>
          <a:off x="457200" y="1523880"/>
          <a:ext cx="8305920" cy="52578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ови који могу повећати ИНР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ови који могу смањити ИНР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8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Doxycyclin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MT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Derivati  fibrične kiseline: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Fenofibra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Gemfibrozil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MT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Fluorohinoloni: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Ciprofloxacin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Levofloxacin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Moxifloxacin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MT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Isoniazid (≥ 600 mg/day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MT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Macrolidi: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Azithromycin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Clarithromycin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Erythromycin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MT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Phenytoin – bifazni efekat, moze inicijaln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 IN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Propafenon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Simvastatin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amazepin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lestyramin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closporin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fcilli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irapin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barbital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ytoin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famycin derivatives: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Rifabuti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Rifampi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Rifaximin (non-formulary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tonovir (Norvir®, Kaletra®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Интеракције варфарина са биљним препаратима и храном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880" y="15998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ginkgo -↑ризик од цереброваскуларних крварења – озбиљна интеракција  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Препарати бруснице - ↑ризик од крварења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Препарати на бази белог лука- могу такође ↑ризик од крварења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Храна богата витамином К (зелено поврће) смањује антикоагулантни ефекат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rbel"/>
              </a:rPr>
              <a:t>Препорука - Избећи флуктуације у исхрани и обезбедити дневни унос витамина К у количини од 100-150</a:t>
            </a:r>
            <a:r>
              <a:rPr b="1" lang="el-GR" sz="2900" spc="-1" strike="noStrike">
                <a:solidFill>
                  <a:srgbClr val="ffffff"/>
                </a:solidFill>
                <a:latin typeface="Corbel"/>
                <a:ea typeface="Calibri"/>
              </a:rPr>
              <a:t>μ</a:t>
            </a:r>
            <a:r>
              <a:rPr b="1" lang="en-US" sz="2900" spc="-1" strike="noStrike">
                <a:solidFill>
                  <a:srgbClr val="ffffff"/>
                </a:solidFill>
                <a:latin typeface="Corbel"/>
                <a:ea typeface="Calibri"/>
              </a:rPr>
              <a:t>г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14400" y="-60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Нови орални антикоагуланси</a:t>
            </a:r>
            <a:r>
              <a:rPr b="0" lang="sr-CS" sz="4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br>
              <a:rPr sz="4000"/>
            </a:br>
            <a:r>
              <a:rPr b="0" lang="sr-CS" sz="4000" spc="-1" strike="noStrike">
                <a:solidFill>
                  <a:srgbClr val="ffffff"/>
                </a:solidFill>
                <a:latin typeface="Calibri"/>
                <a:ea typeface="Calibri"/>
              </a:rPr>
              <a:t>(НОАК)</a:t>
            </a:r>
            <a:br>
              <a:rPr sz="4000"/>
            </a:br>
            <a:br>
              <a:rPr sz="4000"/>
            </a:br>
            <a:r>
              <a:rPr b="0" i="1" lang="sr-C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914400" y="2386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II</a:t>
            </a:r>
            <a:r>
              <a:rPr b="1" i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.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Директни инхибитори тромбина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bigatran eteksilat (Pradaxa® caps.)- пролек, метаболише се у dabigatran</a:t>
            </a:r>
            <a:r>
              <a:rPr b="0" lang="sr-Latn-RS" sz="2800" spc="-1" strike="noStrike">
                <a:solidFill>
                  <a:srgbClr val="ffffff"/>
                </a:solidFill>
                <a:latin typeface="Corbel"/>
              </a:rPr>
              <a:t> (tbl. 150mg, tbl.110mg,tbl. 75mg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III. Високо селективни директни инхибитор фактора Ха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varoksaban (Xarelto® tabl.1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g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, 20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m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piksaban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(Eliquis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bl.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2.5mg i tabl. 5mg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Тромболитичка терапија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914400" y="2491920"/>
            <a:ext cx="7772400" cy="27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000000"/>
                </a:solidFill>
                <a:latin typeface="Corbe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рва линија лечења у пацијената са ПЕ код којих</a:t>
            </a:r>
            <a:r>
              <a:rPr b="1" lang="sr-R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је стратификован висок ризик за рани морталитет у одсуству апсолутних контраиндикациј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Тромболитичка терап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685440" y="14842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Тромболитичка терапија није терапија првог избора  ни за ДВТ ни за ПЕ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Због повишеног ризика од крварења (2 до 5 пута) препоручује се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код масивне проксималне тромбозе и </a:t>
            </a:r>
            <a:r>
              <a:rPr b="1" lang="sr-Latn-CS" sz="1900" spc="-1" strike="noStrike">
                <a:solidFill>
                  <a:srgbClr val="ffff00"/>
                </a:solidFill>
                <a:latin typeface="Calibri"/>
              </a:rPr>
              <a:t>PE </a:t>
            </a:r>
            <a:r>
              <a:rPr b="1" lang="en-US" sz="1900" spc="-1" strike="noStrike">
                <a:solidFill>
                  <a:srgbClr val="ffff00"/>
                </a:solidFill>
                <a:latin typeface="Calibri"/>
              </a:rPr>
              <a:t>високог ризика тј. с</a:t>
            </a:r>
            <a:r>
              <a:rPr b="1" lang="sr-Latn-RS" sz="19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en-US" sz="1900" spc="-1" strike="noStrike">
                <a:solidFill>
                  <a:srgbClr val="ffff00"/>
                </a:solidFill>
                <a:latin typeface="Calibri"/>
              </a:rPr>
              <a:t> кардиогеним шоком и/или трајном хипотензиј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Тромболитици се примењују системски (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v.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инфузије), али све чешће  локално (катетером усмерена тромболиза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Тромболитике треба примењивати код свежих  тромбоза (старих до 48 сати)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Током тромболитичке терапије, треба прекинути  терапију хепарином, а наставити упоредну примену супортивне терапије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0954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 П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90-95%  плућних емболија потиче из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убоко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нског система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оњих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ем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руге ретке локације укључују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е материце и простат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брежне вен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рњих екстрем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libri"/>
                <a:ea typeface="Calibri"/>
              </a:rPr>
              <a:t>д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сно срц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43" name="Picture 2" descr="\\euh\ehc\Users\mmd7bwa\home\Chief's Conference\DVT-PE\DVT_art_v1.jpg"/>
          <p:cNvPicPr/>
          <p:nvPr/>
        </p:nvPicPr>
        <p:blipFill>
          <a:blip r:embed="rId1"/>
          <a:stretch/>
        </p:blipFill>
        <p:spPr>
          <a:xfrm>
            <a:off x="5619600" y="2286000"/>
            <a:ext cx="3200400" cy="403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Тромболитичка терап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ловање испољавају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одмах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кон примен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директн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активација плазминогена у плазмин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јасно убрзавају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лизу тромб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лавни лимитирајући фактор је повећан ризик за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рвавље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Тромболитички леков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Стрептокиназа:</a:t>
            </a: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индиректно активира плазминоген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                      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ије фибриноген специфичн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рдинира се у дози од 250.000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v. </a:t>
            </a: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т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оком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30 мин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а затим 100.000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/h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у току 24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Алтеплаза</a:t>
            </a: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рекомбиновани ткивни плазминоген активатор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фибрин-специфичан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рдинира се у дози од 100 мг у инфузији у трајању од 2 сат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00"/>
                </a:solidFill>
                <a:latin typeface="Calibri"/>
              </a:rPr>
              <a:t>Тенектеплаза</a:t>
            </a:r>
            <a:r>
              <a:rPr b="0" lang="sr-CS" sz="28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рекомбиновани ткивни плазминоген активатор,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високо фибрин-специфичан (мањи ризик од крварења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Ординира се у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v.</a:t>
            </a: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 болус ињекцији у дози од 0,53 мг/кг телесне тежине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(конверзија 1 мл=5мг=5.000 У). нпр. пацијент тежине 70-80 кг. треба дозу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од 8 мл (40.000 У) дату у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v.</a:t>
            </a:r>
            <a:r>
              <a:rPr b="0" lang="sr-CS" sz="1900" spc="-1" strike="noStrike">
                <a:solidFill>
                  <a:srgbClr val="ffffff"/>
                </a:solidFill>
                <a:latin typeface="Calibri"/>
              </a:rPr>
              <a:t> болусу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РИЗИК ТРОМБОЛИЗНЕ ТЕРАПИЈ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457200" y="1600200"/>
          <a:ext cx="8229600" cy="4503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СОЛУТНЕ КОНТРАИНДИКАЦИЈ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рагични мождани удар или мождани удар непознатог порекла било кад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хемични мождани удар током претходних 6 месеци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реде централног нервног система или неоплазм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ашња велика траума (хирургија, повреда главе) током претходне 3 седмиц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строинтестинално крвављење током протеклих 30 дан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рагијска дијатез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РИЗИК ТРОМБОЛИЗНЕ ТЕРАПИЈ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Calibri"/>
                        </a:rPr>
                        <a:t>РЕЛАТИВНЕ КОНТРАИНДИКАЦИЈ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зиторни исхемијски атак у претходних 6 месеци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ална антикоагулантна терапиј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ћа или период  унутар 1 недеље од порођај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нкције са некомпресибилне тачке крвављењ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уматска ресуститациј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ракторна хипертензија ( систолни крвни притиска &gt; 180 mmHg)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напредовала болест јетр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тивни ендокардитис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и пептички улкус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ЕМБОЛЕКТОМ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мболектомија (хируршка или катетер) се препоручује код болесника с високо ризичном ПЕ код којих је тромболиза неуспешна или апсолутно контраиндикова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ФАКТОРИ РИЗИКА ЗА ВТ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Rectangle 3"/>
          <p:cNvSpPr/>
          <p:nvPr/>
        </p:nvSpPr>
        <p:spPr>
          <a:xfrm>
            <a:off x="2290680" y="2286000"/>
            <a:ext cx="4657680" cy="520560"/>
          </a:xfrm>
          <a:prstGeom prst="rect">
            <a:avLst/>
          </a:prstGeom>
          <a:solidFill>
            <a:srgbClr val="ef509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Calibri"/>
              </a:rPr>
              <a:t>СТЕЧЕНИ ФАКТОРИ</a:t>
            </a:r>
            <a:r>
              <a:rPr b="1" lang="sr-Latn-CS" sz="28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46" name="Rectangle 5"/>
          <p:cNvSpPr/>
          <p:nvPr/>
        </p:nvSpPr>
        <p:spPr>
          <a:xfrm>
            <a:off x="1908000" y="3645000"/>
            <a:ext cx="5472360" cy="520560"/>
          </a:xfrm>
          <a:prstGeom prst="rect">
            <a:avLst/>
          </a:prstGeom>
          <a:solidFill>
            <a:srgbClr val="ef509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Calibri"/>
              </a:rPr>
              <a:t>УРОЂЕНИ ФАКТОРИ</a:t>
            </a:r>
            <a:r>
              <a:rPr b="1" lang="sr-Latn-CS" sz="2800" spc="-1" strike="noStrike">
                <a:solidFill>
                  <a:srgbClr val="ffff00"/>
                </a:solidFill>
                <a:latin typeface="Calibri"/>
              </a:rPr>
              <a:t>- 20%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47" name="Rectangle 7"/>
          <p:cNvSpPr/>
          <p:nvPr/>
        </p:nvSpPr>
        <p:spPr>
          <a:xfrm>
            <a:off x="2930760" y="107964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  </a:t>
            </a:r>
            <a:r>
              <a:rPr b="1" lang="hr-HR" sz="1800" spc="-1" strike="noStrike">
                <a:solidFill>
                  <a:srgbClr val="ffcc00"/>
                </a:solidFill>
                <a:latin typeface="Comic Sans MS"/>
              </a:rPr>
              <a:t>Martin Reidel 2003</a:t>
            </a:r>
            <a:r>
              <a:rPr b="0" lang="en-GB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148" name="Rectangle 2"/>
          <p:cNvSpPr/>
          <p:nvPr/>
        </p:nvSpPr>
        <p:spPr>
          <a:xfrm>
            <a:off x="2398320" y="494172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92929"/>
                </a:solidFill>
                <a:latin typeface="Corbel"/>
              </a:rPr>
              <a:t>хиперкоагулабилност</a:t>
            </a:r>
            <a:r>
              <a:rPr b="0" lang="sr-Latn-CS" sz="1800" spc="-1" strike="noStrike">
                <a:solidFill>
                  <a:srgbClr val="292929"/>
                </a:solidFill>
                <a:latin typeface="Corbel"/>
              </a:rPr>
              <a:t> –</a:t>
            </a:r>
            <a:r>
              <a:rPr b="0" lang="sr-RS" sz="1800" spc="-1" strike="noStrike">
                <a:solidFill>
                  <a:srgbClr val="292929"/>
                </a:solidFill>
                <a:latin typeface="Corbel"/>
              </a:rPr>
              <a:t> тромбофилија</a:t>
            </a:r>
            <a:endParaRPr b="0" lang="en-US" sz="1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cc00"/>
                </a:solidFill>
                <a:latin typeface="Consolas"/>
              </a:rPr>
              <a:t>Стечени</a:t>
            </a:r>
            <a:r>
              <a:rPr b="0" lang="sr-Latn-CS" sz="3600" spc="-1" strike="noStrike">
                <a:solidFill>
                  <a:srgbClr val="ffcc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cc00"/>
                </a:solidFill>
                <a:latin typeface="Consolas"/>
              </a:rPr>
              <a:t>фактори</a:t>
            </a:r>
            <a:r>
              <a:rPr b="0" lang="sr-Latn-CS" sz="3600" spc="-1" strike="noStrike">
                <a:solidFill>
                  <a:srgbClr val="ffcc00"/>
                </a:solidFill>
                <a:latin typeface="Consolas"/>
              </a:rPr>
              <a:t> </a:t>
            </a:r>
            <a:r>
              <a:rPr b="0" lang="sr-RS" sz="3600" spc="-1" strike="noStrike">
                <a:solidFill>
                  <a:srgbClr val="ffcc00"/>
                </a:solidFill>
                <a:latin typeface="Consolas"/>
              </a:rPr>
              <a:t>ризика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23640" y="183672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ИМОБИЛИЗАЦИЈА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/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лежањ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утовањ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колим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авионом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2 -4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ут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овећав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ВЕЛИКЕ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ТРАУМЕ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ИЛ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ХИРУШКЕ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ИНТЕРВЕНЦИЈЕ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/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абдомену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карлици</a:t>
            </a:r>
            <a:r>
              <a:rPr b="1" lang="sr-Latn-CS" sz="2400" spc="-1" strike="noStrike">
                <a:solidFill>
                  <a:srgbClr val="ffff00"/>
                </a:solidFill>
                <a:latin typeface="Corbel"/>
              </a:rPr>
              <a:t> -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тариј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дужин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анестезиј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редходн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венске тромбозе (ВТ)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Corbel"/>
              </a:rPr>
              <a:t>МАЛИГНИТЕТ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умор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луч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рокоагуланс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Непознат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фактор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ризик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Т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-10-20%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малигн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умор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ГИТ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умор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мозг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дојк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анкраса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оваријум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малигн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тумор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гинекологиј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Т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20%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смрти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Corbel"/>
              </a:rPr>
              <a:t>хистеректом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04:32:49Z</dcterms:created>
  <dc:creator>dr</dc:creator>
  <dc:description/>
  <dc:language>en-US</dc:language>
  <cp:lastModifiedBy>ismail - [2010]</cp:lastModifiedBy>
  <dcterms:modified xsi:type="dcterms:W3CDTF">2018-01-28T20:31:54Z</dcterms:modified>
  <cp:revision>860</cp:revision>
  <dc:subject/>
  <dc:title>PowerPoint Presentation</dc:title>
</cp:coreProperties>
</file>